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AB7F9-6306-4B7B-B912-17F990713FDC}" type="slidenum">
              <a:rPr b="0" lang="en-C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C7356-C8F8-4FB4-81C4-88DCE251F025}" type="slidenum">
              <a:rPr b="0" lang="en-C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E8FE8-A25E-4363-BCEF-6FE8DAFF52D0}" type="slidenum">
              <a:rPr b="0" lang="en-C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458B3-515B-4EA9-B51F-BC540423A1B1}" type="slidenum">
              <a:rPr b="0" lang="en-C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84C92-7412-4224-9069-673C5CC6A1F8}" type="slidenum">
              <a:rPr b="0" lang="en-C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1E6C4-E870-4A0B-AF1A-1441FADEE01F}" type="slidenum">
              <a:rPr b="0" lang="en-C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0B8E1-16A9-4BAE-8BE5-049BAA3E301C}" type="slidenum">
              <a:rPr b="0" lang="en-C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3F21A-34A4-4AB4-BC35-83D3DFBE0C27}" type="slidenum">
              <a:rPr b="0" lang="en-C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7D373-6052-48A6-8E9C-D1A5CA0CFC7D}" type="slidenum">
              <a:rPr b="0" lang="en-C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D65F5-53F0-4218-8403-C07F5A83E6E0}" type="slidenum">
              <a:rPr b="0" lang="en-C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50B60-8E53-45C3-80EA-503D0A935F14}" type="slidenum">
              <a:rPr b="0" lang="en-C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40B3A-7948-454D-BD30-B58E2D3B0887}" type="slidenum">
              <a:rPr b="0" lang="en-C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F09D8-2B80-4036-88C4-74B7580CE917}" type="slidenum">
              <a:rPr b="0" lang="en-C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4FB9A-42BE-49CE-AF8D-C50A7C9498EC}" type="slidenum">
              <a:rPr b="0" lang="en-C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E420A-7C59-40B9-B8B9-1F40EFF42E50}" type="slidenum">
              <a:rPr b="0" lang="en-C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5D53C-3FBB-4F27-A00B-96F0C28E1119}" type="slidenum">
              <a:rPr b="0" lang="en-C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55741-2D82-47E5-98F7-498C0191FFD3}" type="slidenum">
              <a:rPr b="0" lang="en-C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C71BC-C742-4CFA-916E-B53A90FFBC3E}" type="slidenum">
              <a:rPr b="0" lang="en-C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CF04C-5D93-45EF-BD85-2DDEB0871723}" type="slidenum">
              <a:rPr b="0" lang="en-C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C2D52-FD32-42E4-8675-5A06E841B0D6}" type="slidenum">
              <a:rPr b="0" lang="en-C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E83A1-ECBE-4715-AA57-6BC1E5DC9351}" type="slidenum">
              <a:rPr b="0" lang="en-C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F182A-7DCF-45AD-8878-4C84B1330296}" type="slidenum">
              <a:rPr b="0" lang="en-C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BAD9A-D683-4696-91BC-92D5F82AE2D4}" type="slidenum">
              <a:rPr b="0" lang="en-C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72A01-E782-4816-A374-771300BEB5F2}" type="slidenum">
              <a:rPr b="0" lang="en-C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F20EE-D111-4CDD-9DE8-C551AFD3367F}" type="slidenum">
              <a:rPr b="0" lang="en-C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B5C69-F365-4FC7-BC70-2A9AF3FF262D}" type="slidenum">
              <a:rPr b="0" lang="en-C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729D8-FFD6-4F2D-B644-FFFF15E0D8F1}" type="slidenum">
              <a:rPr b="0" lang="en-C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EC4C5-7B0E-44A0-A89D-BC574D6D3632}" type="slidenum">
              <a:rPr b="0" lang="en-C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AE049-DEB6-4C7E-AA1F-2DDEF2FB17E6}" type="slidenum">
              <a:rPr b="0" lang="en-C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0C418-C3FE-424E-A8BB-BE054788641C}" type="slidenum">
              <a:rPr b="0" lang="en-C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8982E-3830-4094-91EB-86B4F6D28F9F}" type="slidenum">
              <a:rPr b="0" lang="en-C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13485-D94B-4200-9B45-CDC3BDD08EB7}" type="slidenum">
              <a:rPr b="0" lang="en-C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9F3F5-6499-44B6-A634-57FE821080A7}" type="slidenum">
              <a:rPr b="0" lang="en-C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80180-D0F9-49D0-AE1D-6DA77958BB4B}" type="slidenum">
              <a:rPr b="0" lang="en-C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6EAFD-671C-4A72-970D-39873D4EF349}" type="slidenum">
              <a:rPr b="0" lang="en-C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34FF6-C880-4CD4-AD27-6459E5742371}" type="slidenum">
              <a:rPr b="0" lang="en-C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BCF26-3746-493F-BA85-98F899700053}" type="slidenum">
              <a:rPr b="0" lang="en-C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84B46-A60C-468E-B0C1-05C3A2D6F202}" type="slidenum">
              <a:rPr b="0" lang="en-C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967F3-FDA4-42B3-850B-343523C244BC}" type="slidenum">
              <a:rPr b="0" lang="en-C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9544D-9E1C-4036-BE41-23A540F0FD62}" type="slidenum">
              <a:rPr b="0" lang="en-C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8646B0-2B96-47D1-97F3-7C1F6A6B87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28600" y="303120"/>
            <a:ext cx="779616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39400" y="1600200"/>
            <a:ext cx="82947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39400" y="3988440"/>
            <a:ext cx="82947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BB0F95-3802-4274-9861-36B6162ACE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303120"/>
            <a:ext cx="779616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3940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48956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39400" y="398844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489560" y="398844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3355CC-5324-4A57-90AA-F5CF5C882C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28600" y="303120"/>
            <a:ext cx="779616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39400" y="1600200"/>
            <a:ext cx="2670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044160" y="1600200"/>
            <a:ext cx="2670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48920" y="1600200"/>
            <a:ext cx="2670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239400" y="3988440"/>
            <a:ext cx="2670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044160" y="3988440"/>
            <a:ext cx="2670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48920" y="3988440"/>
            <a:ext cx="2670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EB62CB-5EBD-43F4-A973-8B7AB624E8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303120"/>
            <a:ext cx="779616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239400" y="1600200"/>
            <a:ext cx="82947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303120"/>
            <a:ext cx="779616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39400" y="1600200"/>
            <a:ext cx="82947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303120"/>
            <a:ext cx="779616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39400" y="1600200"/>
            <a:ext cx="4047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489560" y="1600200"/>
            <a:ext cx="4047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600" y="303120"/>
            <a:ext cx="779616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228600" y="303120"/>
            <a:ext cx="7796160" cy="46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303120"/>
            <a:ext cx="779616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3940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489560" y="1600200"/>
            <a:ext cx="4047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39400" y="398844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303120"/>
            <a:ext cx="779616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239400" y="1600200"/>
            <a:ext cx="82947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6CCFC6-126A-40D2-8B54-AB9B6C79D3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303120"/>
            <a:ext cx="779616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9400" y="1600200"/>
            <a:ext cx="4047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48956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489560" y="398844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303120"/>
            <a:ext cx="779616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3940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48956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39400" y="3988440"/>
            <a:ext cx="82947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303120"/>
            <a:ext cx="779616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39400" y="1600200"/>
            <a:ext cx="82947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39400" y="3988440"/>
            <a:ext cx="82947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303120"/>
            <a:ext cx="779616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3940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48956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239400" y="398844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489560" y="398844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28600" y="303120"/>
            <a:ext cx="779616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39400" y="1600200"/>
            <a:ext cx="2670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044160" y="1600200"/>
            <a:ext cx="2670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848920" y="1600200"/>
            <a:ext cx="2670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239400" y="3988440"/>
            <a:ext cx="2670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044160" y="3988440"/>
            <a:ext cx="2670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848920" y="3988440"/>
            <a:ext cx="2670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303120"/>
            <a:ext cx="779616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39400" y="1600200"/>
            <a:ext cx="82947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2E2244-6017-4783-AD70-46A4A23DC6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303120"/>
            <a:ext cx="779616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39400" y="1600200"/>
            <a:ext cx="4047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489560" y="1600200"/>
            <a:ext cx="4047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1E6315-A469-434F-8321-F7CFA9B155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8600" y="303120"/>
            <a:ext cx="779616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49C3E8-81F2-4A2E-8BDB-14A9CB3E42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228600" y="303120"/>
            <a:ext cx="7796160" cy="46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A8EC84-CD27-409E-9EB8-21F821BE29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303120"/>
            <a:ext cx="779616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3940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89560" y="1600200"/>
            <a:ext cx="4047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239400" y="398844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4C1842-17E7-41FE-9D7B-5B95F65C3C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303120"/>
            <a:ext cx="779616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39400" y="1600200"/>
            <a:ext cx="4047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48956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489560" y="398844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D2EDD5-AB5E-4D79-92D8-F3AEF8CFA1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303120"/>
            <a:ext cx="779616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3940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48956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39400" y="3988440"/>
            <a:ext cx="82947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4744F5-AD4C-4FB2-8427-4549AE3DEF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5"/>
          <p:cNvGrpSpPr/>
          <p:nvPr/>
        </p:nvGrpSpPr>
        <p:grpSpPr>
          <a:xfrm>
            <a:off x="8935200" y="1449360"/>
            <a:ext cx="208080" cy="5408640"/>
            <a:chOff x="8935200" y="1449360"/>
            <a:chExt cx="208080" cy="5408640"/>
          </a:xfrm>
        </p:grpSpPr>
        <p:sp>
          <p:nvSpPr>
            <p:cNvPr id="1" name="Rectangle 38"/>
            <p:cNvSpPr/>
            <p:nvPr/>
          </p:nvSpPr>
          <p:spPr>
            <a:xfrm flipH="1">
              <a:off x="9041760" y="1449360"/>
              <a:ext cx="101160" cy="5408640"/>
            </a:xfrm>
            <a:prstGeom prst="rect">
              <a:avLst/>
            </a:prstGeom>
            <a:solidFill>
              <a:srgbClr val="677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4"/>
            <p:cNvGrpSpPr/>
            <p:nvPr/>
          </p:nvGrpSpPr>
          <p:grpSpPr>
            <a:xfrm>
              <a:off x="8935200" y="1449360"/>
              <a:ext cx="143280" cy="5408640"/>
              <a:chOff x="8935200" y="1449360"/>
              <a:chExt cx="143280" cy="5408640"/>
            </a:xfrm>
          </p:grpSpPr>
          <p:sp>
            <p:nvSpPr>
              <p:cNvPr id="3" name="Rectangle 43"/>
              <p:cNvSpPr/>
              <p:nvPr/>
            </p:nvSpPr>
            <p:spPr>
              <a:xfrm flipH="1" rot="10800000">
                <a:off x="8934840" y="1449360"/>
                <a:ext cx="78120" cy="5408640"/>
              </a:xfrm>
              <a:prstGeom prst="rect">
                <a:avLst/>
              </a:pr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Rectangle 32"/>
              <p:cNvSpPr/>
              <p:nvPr/>
            </p:nvSpPr>
            <p:spPr>
              <a:xfrm flipH="1" rot="10800000">
                <a:off x="9000720" y="1449360"/>
                <a:ext cx="77760" cy="5408640"/>
              </a:xfrm>
              <a:prstGeom prst="rect">
                <a:avLst/>
              </a:prstGeom>
              <a:solidFill>
                <a:srgbClr val="99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Rectangle 37"/>
          <p:cNvSpPr/>
          <p:nvPr/>
        </p:nvSpPr>
        <p:spPr>
          <a:xfrm rot="16200000">
            <a:off x="3845520" y="-3845520"/>
            <a:ext cx="1449360" cy="9140760"/>
          </a:xfrm>
          <a:prstGeom prst="rect">
            <a:avLst/>
          </a:prstGeom>
          <a:solidFill>
            <a:srgbClr val="677228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303120"/>
            <a:ext cx="779616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ldNum" idx="1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9900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Slide 4- </a:t>
            </a:r>
            <a:fld id="{2B500F60-B4D9-4D2B-BF04-B588FD041756}" type="slidenum"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body"/>
          </p:nvPr>
        </p:nvSpPr>
        <p:spPr>
          <a:xfrm>
            <a:off x="239400" y="1600200"/>
            <a:ext cx="82947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00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990033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990033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Rectangle 30"/>
          <p:cNvSpPr/>
          <p:nvPr/>
        </p:nvSpPr>
        <p:spPr>
          <a:xfrm>
            <a:off x="838080" y="639756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07 Ramez Elmasri and Shamkant B. Navath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44"/>
          <p:cNvSpPr/>
          <p:nvPr/>
        </p:nvSpPr>
        <p:spPr>
          <a:xfrm>
            <a:off x="8305920" y="0"/>
            <a:ext cx="609480" cy="6858000"/>
          </a:xfrm>
          <a:prstGeom prst="rect">
            <a:avLst/>
          </a:prstGeom>
          <a:gradFill rotWithShape="0">
            <a:gsLst>
              <a:gs pos="0">
                <a:srgbClr val="677228">
                  <a:alpha val="44313"/>
                </a:srgbClr>
              </a:gs>
              <a:gs pos="100000">
                <a:srgbClr val="5a642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47"/>
          <p:cNvSpPr/>
          <p:nvPr/>
        </p:nvSpPr>
        <p:spPr>
          <a:xfrm rot="16200000">
            <a:off x="3500280" y="-986040"/>
            <a:ext cx="2143080" cy="9144000"/>
          </a:xfrm>
          <a:prstGeom prst="rect">
            <a:avLst/>
          </a:prstGeom>
          <a:solidFill>
            <a:srgbClr val="677228">
              <a:alpha val="4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48"/>
          <p:cNvSpPr/>
          <p:nvPr/>
        </p:nvSpPr>
        <p:spPr>
          <a:xfrm>
            <a:off x="7315200" y="2438280"/>
            <a:ext cx="1828800" cy="2291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35" descr="awtri_4c UPDATE_color"/>
          <p:cNvPicPr/>
          <p:nvPr/>
        </p:nvPicPr>
        <p:blipFill>
          <a:blip r:embed="rId2"/>
          <a:stretch/>
        </p:blipFill>
        <p:spPr>
          <a:xfrm>
            <a:off x="76320" y="5950080"/>
            <a:ext cx="684000" cy="8316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6" descr="elmasri_thumb"/>
          <p:cNvPicPr/>
          <p:nvPr/>
        </p:nvPicPr>
        <p:blipFill>
          <a:blip r:embed="rId3"/>
          <a:stretch/>
        </p:blipFill>
        <p:spPr>
          <a:xfrm>
            <a:off x="7419960" y="2514600"/>
            <a:ext cx="1724040" cy="214308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303120"/>
            <a:ext cx="779616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239400" y="1600200"/>
            <a:ext cx="82947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00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990033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990033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2"/>
          </p:nvPr>
        </p:nvSpPr>
        <p:spPr>
          <a:xfrm>
            <a:off x="837720" y="6397560"/>
            <a:ext cx="4496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Copyright © 2007 Ramez Elmasri and Shamkant B. Navath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9"/>
          <p:cNvSpPr/>
          <p:nvPr/>
        </p:nvSpPr>
        <p:spPr>
          <a:xfrm>
            <a:off x="838080" y="639756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07 Ramez Elmasri and Shamkant B. Navath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304560" y="2590560"/>
            <a:ext cx="6629400" cy="190476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Enhanced Entity-Relationship (EER) Modeling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Arial"/>
              </a:rPr>
              <a:t>Slide 4- </a:t>
            </a:r>
            <a:fld id="{173CD79F-E6E0-4B47-AC5B-606EEE6DAC48}" type="slidenum">
              <a:rPr b="1" lang="en-US" sz="1400" spc="-1" strike="noStrike">
                <a:solidFill>
                  <a:srgbClr val="99003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303120"/>
            <a:ext cx="779616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Specialization (1)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39400" y="1600200"/>
            <a:ext cx="829476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00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pecialization is the process of defining a set of subclasses of a superclass 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00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The set of subclasses is based upon some distinguishing characteristics of the entities in the superclass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00000"/>
                </a:solidFill>
                <a:latin typeface="Arial"/>
              </a:rPr>
              <a:t>Example: {SECRETARY, ENGINEER, TECHNICIAN} is a specialization of EMPLOYEE based upon </a:t>
            </a:r>
            <a:r>
              <a:rPr b="0" i="1" lang="en-US" sz="2600" spc="-1" strike="noStrike">
                <a:solidFill>
                  <a:srgbClr val="800000"/>
                </a:solidFill>
                <a:latin typeface="Arial"/>
              </a:rPr>
              <a:t>job type.</a:t>
            </a:r>
            <a:endParaRPr b="0" lang="en-US" sz="2600" spc="-1" strike="noStrike">
              <a:solidFill>
                <a:srgbClr val="8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0033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May have several specializations of the same superclass 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Arial"/>
              </a:rPr>
              <a:t>Slide 4- </a:t>
            </a:r>
            <a:fld id="{CD12EA7D-337D-41F4-BB61-ECD842F1444F}" type="slidenum">
              <a:rPr b="1" lang="en-US" sz="1400" spc="-1" strike="noStrike">
                <a:solidFill>
                  <a:srgbClr val="99003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600" y="303120"/>
            <a:ext cx="779616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Specialization (2)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39400" y="1600200"/>
            <a:ext cx="829476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Example: Another specialization of EMPLOYEE based on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method of pay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is {SALARIED_EMPLOYEE, HOURLY_EMPLOYEE}.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Superclass/subclass relationships and specialization can be diagrammatically represented in EER diagrams</a:t>
            </a:r>
            <a:endParaRPr b="0" lang="en-US" sz="22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Attributes of a subclass are called </a:t>
            </a:r>
            <a:r>
              <a:rPr b="0" i="1" lang="en-US" sz="2200" spc="-1" strike="noStrike">
                <a:solidFill>
                  <a:srgbClr val="800000"/>
                </a:solidFill>
                <a:latin typeface="Arial"/>
              </a:rPr>
              <a:t>specific</a:t>
            </a: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 or </a:t>
            </a:r>
            <a:r>
              <a:rPr b="0" i="1" lang="en-US" sz="2200" spc="-1" strike="noStrike">
                <a:solidFill>
                  <a:srgbClr val="800000"/>
                </a:solidFill>
                <a:latin typeface="Arial"/>
              </a:rPr>
              <a:t>local</a:t>
            </a: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 attributes.</a:t>
            </a:r>
            <a:endParaRPr b="0" lang="en-US" sz="2200" spc="-1" strike="noStrike">
              <a:solidFill>
                <a:srgbClr val="8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990033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For example, the attribute TypingSpeed of SECRETARY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The subclass can also participate in specific relationship types.</a:t>
            </a:r>
            <a:endParaRPr b="0" lang="en-US" sz="2200" spc="-1" strike="noStrike">
              <a:solidFill>
                <a:srgbClr val="8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990033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For example, a relationship BELONGS_TO of HOURLY_EMPLOYEE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Arial"/>
              </a:rPr>
              <a:t>Slide 4- </a:t>
            </a:r>
            <a:fld id="{3CFA2B1F-1FAC-4B48-A5BE-C5595DE44D37}" type="slidenum">
              <a:rPr b="1" lang="en-US" sz="1400" spc="-1" strike="noStrike">
                <a:solidFill>
                  <a:srgbClr val="99003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3" descr="fig04_01"/>
          <p:cNvPicPr/>
          <p:nvPr/>
        </p:nvPicPr>
        <p:blipFill>
          <a:blip r:embed="rId1"/>
          <a:stretch/>
        </p:blipFill>
        <p:spPr>
          <a:xfrm>
            <a:off x="609480" y="1523880"/>
            <a:ext cx="7772400" cy="493740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4"/>
          <p:cNvSpPr/>
          <p:nvPr/>
        </p:nvSpPr>
        <p:spPr>
          <a:xfrm>
            <a:off x="304920" y="822240"/>
            <a:ext cx="693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Specialization 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Arial"/>
              </a:rPr>
              <a:t>Slide 4- </a:t>
            </a:r>
            <a:fld id="{5B297983-AFDE-436F-83A7-24F0FC7C331C}" type="slidenum">
              <a:rPr b="1" lang="en-US" sz="1400" spc="-1" strike="noStrike">
                <a:solidFill>
                  <a:srgbClr val="99003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28600" y="303120"/>
            <a:ext cx="779616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Generalization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39400" y="1600200"/>
            <a:ext cx="829476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Generalization is the reverse of the specialization process 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Several classes with common features are generalized into a superclass; 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original classes become its subclasses</a:t>
            </a:r>
            <a:endParaRPr b="0" lang="en-US" sz="22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Example: CAR, TRUCK generalized into VEHICLE; 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both CAR, TRUCK become subclasses of the superclass VEHICLE.</a:t>
            </a:r>
            <a:endParaRPr b="0" lang="en-US" sz="22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We can view {CAR, TRUCK} as a specialization of VEHICLE </a:t>
            </a:r>
            <a:endParaRPr b="0" lang="en-US" sz="22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Alternatively, we can view VEHICLE as a generalization of CAR and TRUCK </a:t>
            </a:r>
            <a:endParaRPr b="0" lang="en-US" sz="22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Arial"/>
              </a:rPr>
              <a:t>Slide 4- </a:t>
            </a:r>
            <a:fld id="{14D821FE-2DF3-4DE6-A67E-0DC19438067A}" type="slidenum">
              <a:rPr b="1" lang="en-US" sz="1400" spc="-1" strike="noStrike">
                <a:solidFill>
                  <a:srgbClr val="99003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3" descr="fig04_03"/>
          <p:cNvPicPr/>
          <p:nvPr/>
        </p:nvPicPr>
        <p:blipFill>
          <a:blip r:embed="rId1"/>
          <a:stretch/>
        </p:blipFill>
        <p:spPr>
          <a:xfrm>
            <a:off x="762120" y="1600200"/>
            <a:ext cx="7238880" cy="484812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4"/>
          <p:cNvSpPr/>
          <p:nvPr/>
        </p:nvSpPr>
        <p:spPr>
          <a:xfrm>
            <a:off x="533520" y="716040"/>
            <a:ext cx="563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Generalization 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Arial"/>
              </a:rPr>
              <a:t>Slide 4- </a:t>
            </a:r>
            <a:fld id="{726EC7C2-9460-4783-BBCA-4CC14CD5B106}" type="slidenum">
              <a:rPr b="1" lang="en-US" sz="1400" spc="-1" strike="noStrike">
                <a:solidFill>
                  <a:srgbClr val="99003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303120"/>
            <a:ext cx="779616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Generalization and Specialization (1)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39400" y="1600200"/>
            <a:ext cx="829476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00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Diagrammatic notation are sometimes used to distinguish between generalization and specialization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00000"/>
                </a:solidFill>
                <a:latin typeface="Arial"/>
              </a:rPr>
              <a:t>Arrow pointing to the generalized superclass represents a generalization </a:t>
            </a:r>
            <a:endParaRPr b="0" lang="en-US" sz="26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00000"/>
                </a:solidFill>
                <a:latin typeface="Arial"/>
              </a:rPr>
              <a:t>Arrows pointing to the specialized subclasses represent a specialization </a:t>
            </a:r>
            <a:endParaRPr b="0" lang="en-US" sz="26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00000"/>
                </a:solidFill>
                <a:latin typeface="Arial"/>
              </a:rPr>
              <a:t>We </a:t>
            </a:r>
            <a:r>
              <a:rPr b="0" i="1" lang="en-US" sz="2600" spc="-1" strike="noStrike">
                <a:solidFill>
                  <a:srgbClr val="800000"/>
                </a:solidFill>
                <a:latin typeface="Arial"/>
              </a:rPr>
              <a:t>do not use</a:t>
            </a:r>
            <a:r>
              <a:rPr b="0" lang="en-US" sz="2600" spc="-1" strike="noStrike">
                <a:solidFill>
                  <a:srgbClr val="800000"/>
                </a:solidFill>
                <a:latin typeface="Arial"/>
              </a:rPr>
              <a:t> this notation because it is often subjective as to which process is more appropriate for a particular situation </a:t>
            </a:r>
            <a:endParaRPr b="0" lang="en-US" sz="26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00000"/>
                </a:solidFill>
                <a:latin typeface="Arial"/>
              </a:rPr>
              <a:t>We advocate not drawing any arrows</a:t>
            </a:r>
            <a:endParaRPr b="0" lang="en-US" sz="26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Arial"/>
              </a:rPr>
              <a:t>Slide 4- </a:t>
            </a:r>
            <a:fld id="{0AF9728C-2E82-4D0B-AFB9-B592F4188032}" type="slidenum">
              <a:rPr b="1" lang="en-US" sz="1400" spc="-1" strike="noStrike">
                <a:solidFill>
                  <a:srgbClr val="99003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600" y="303120"/>
            <a:ext cx="779616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Generalization and Specialization (2)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39400" y="1600200"/>
            <a:ext cx="829476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00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Data Modeling with Specialization and Generalization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00000"/>
                </a:solidFill>
                <a:latin typeface="Arial"/>
              </a:rPr>
              <a:t>A superclass or subclass represents a collection (or set or grouping) of entities</a:t>
            </a:r>
            <a:endParaRPr b="0" lang="en-US" sz="26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00000"/>
                </a:solidFill>
                <a:latin typeface="Arial"/>
              </a:rPr>
              <a:t>It also represents a particular </a:t>
            </a:r>
            <a:r>
              <a:rPr b="0" i="1" lang="en-US" sz="2600" spc="-1" strike="noStrike">
                <a:solidFill>
                  <a:srgbClr val="800000"/>
                </a:solidFill>
                <a:latin typeface="Arial"/>
              </a:rPr>
              <a:t>type of entity</a:t>
            </a:r>
            <a:endParaRPr b="0" lang="en-US" sz="26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00000"/>
                </a:solidFill>
                <a:latin typeface="Arial"/>
              </a:rPr>
              <a:t>Shown in rectangles in EER diagrams (as are entity types) </a:t>
            </a:r>
            <a:endParaRPr b="0" lang="en-US" sz="26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00000"/>
                </a:solidFill>
                <a:latin typeface="Arial"/>
              </a:rPr>
              <a:t>We can call all entity types (and their corresponding collections) </a:t>
            </a:r>
            <a:r>
              <a:rPr b="1" i="1" lang="en-US" sz="2600" spc="-1" strike="noStrike">
                <a:solidFill>
                  <a:srgbClr val="800000"/>
                </a:solidFill>
                <a:latin typeface="Arial"/>
              </a:rPr>
              <a:t>classes</a:t>
            </a:r>
            <a:r>
              <a:rPr b="0" lang="en-US" sz="2600" spc="-1" strike="noStrike">
                <a:solidFill>
                  <a:srgbClr val="800000"/>
                </a:solidFill>
                <a:latin typeface="Arial"/>
              </a:rPr>
              <a:t>, whether they are entity types, superclasses, or subclasses</a:t>
            </a:r>
            <a:endParaRPr b="0" lang="en-US" sz="2600" spc="-1" strike="noStrike">
              <a:solidFill>
                <a:srgbClr val="8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Arial"/>
              </a:rPr>
              <a:t>Slide 4- </a:t>
            </a:r>
            <a:fld id="{3CF9340B-CEA6-496B-AA17-372C09CC65D9}" type="slidenum">
              <a:rPr b="1" lang="en-US" sz="1400" spc="-1" strike="noStrike">
                <a:solidFill>
                  <a:srgbClr val="99003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8600" y="303120"/>
            <a:ext cx="779616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Constraints on Specialization and Generalization (1)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39400" y="1600200"/>
            <a:ext cx="829476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00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If we can determine exactly those entities that will become members of each subclass by a condition, the subclasses are called predicate-defined (or condition-defined) subclasses 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00000"/>
                </a:solidFill>
                <a:latin typeface="Arial"/>
              </a:rPr>
              <a:t>Condition is a constraint that determines subclass members </a:t>
            </a:r>
            <a:endParaRPr b="0" lang="en-US" sz="26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00000"/>
                </a:solidFill>
                <a:latin typeface="Arial"/>
              </a:rPr>
              <a:t>Display a predicate-defined subclass by writing the predicate condition next to the line attaching the subclass to its superclass </a:t>
            </a:r>
            <a:endParaRPr b="0" lang="en-US" sz="26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Arial"/>
              </a:rPr>
              <a:t>Slide 4- </a:t>
            </a:r>
            <a:fld id="{54174976-E43A-4CBD-8C0A-DCF3CCC0D76F}" type="slidenum">
              <a:rPr b="1" lang="en-US" sz="1400" spc="-1" strike="noStrike">
                <a:solidFill>
                  <a:srgbClr val="99003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28600" y="303120"/>
            <a:ext cx="779616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Constraints on Specialization and Generalization (2)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39400" y="1600200"/>
            <a:ext cx="829476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00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If all subclasses in a specialization have membership condition on same attribute of the superclass, specialization is called an attribute-defined specialization 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Attribute is called the defining attribute of the specialization </a:t>
            </a:r>
            <a:endParaRPr b="0" lang="en-US" sz="22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Example: JobType is the defining attribute of the specialization {SECRETARY, TECHNICIAN, ENGINEER} of EMPLOYEE</a:t>
            </a:r>
            <a:endParaRPr b="0" lang="en-US" sz="22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00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If no condition determines membership, the subclass is called user-defined 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Membership in a subclass is determined by the database users by applying an operation to add an entity to the subclass </a:t>
            </a:r>
            <a:endParaRPr b="0" lang="en-US" sz="22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Membership in the subclass is specified individually for each entity in the superclass by the user </a:t>
            </a:r>
            <a:endParaRPr b="0" lang="en-US" sz="22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Arial"/>
              </a:rPr>
              <a:t>Slide 4- </a:t>
            </a:r>
            <a:fld id="{9BF0F8DA-3087-4B0F-94C2-0C25B5CA3028}" type="slidenum">
              <a:rPr b="1" lang="en-US" sz="1400" spc="-1" strike="noStrike">
                <a:solidFill>
                  <a:srgbClr val="99003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28600" y="303120"/>
            <a:ext cx="779616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Displaying an attribute-defined specialization in EER diagrams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152" name="Picture 5" descr="fig04_04"/>
          <p:cNvPicPr/>
          <p:nvPr/>
        </p:nvPicPr>
        <p:blipFill>
          <a:blip r:embed="rId1"/>
          <a:stretch/>
        </p:blipFill>
        <p:spPr>
          <a:xfrm>
            <a:off x="272880" y="1962000"/>
            <a:ext cx="8413920" cy="391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Arial"/>
              </a:rPr>
              <a:t>Slide 4- </a:t>
            </a:r>
            <a:fld id="{709D7760-3020-4544-992A-0ADB4A4B233E}" type="slidenum">
              <a:rPr b="1" lang="en-US" sz="1400" spc="-1" strike="noStrike">
                <a:solidFill>
                  <a:srgbClr val="99003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303120"/>
            <a:ext cx="779616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Arial"/>
              </a:rPr>
              <a:t>Chapter Outline</a:t>
            </a: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39400" y="1600200"/>
            <a:ext cx="829476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00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EER stands for Enhanced ER or Extended ER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00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EER Model Concepts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Includes all modeling concepts of basic ER </a:t>
            </a:r>
            <a:endParaRPr b="0" lang="en-US" sz="22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Additional concepts: </a:t>
            </a:r>
            <a:endParaRPr b="0" lang="en-US" sz="2200" spc="-1" strike="noStrike">
              <a:solidFill>
                <a:srgbClr val="8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990033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subclasses/superclasses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990033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specialization/generalization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990033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categories (UNION types)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990033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attribute and relationship inheritance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These are fundamental to conceptual modeling</a:t>
            </a:r>
            <a:endParaRPr b="0" lang="en-US" sz="22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00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he additional EER concepts are used to model applications more completely and more accurately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EER includes some object-oriented concepts, such as inheritance</a:t>
            </a:r>
            <a:endParaRPr b="0" lang="en-US" sz="22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Arial"/>
              </a:rPr>
              <a:t>Slide 4- </a:t>
            </a:r>
            <a:fld id="{A83C7875-9DDC-4A17-8B5A-88E468A27378}" type="slidenum">
              <a:rPr b="1" lang="en-US" sz="1400" spc="-1" strike="noStrike">
                <a:solidFill>
                  <a:srgbClr val="99003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303120"/>
            <a:ext cx="779616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Constraints on Specialization and Generalization (3)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39400" y="1600200"/>
            <a:ext cx="829476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00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Two basic constraints can apply to a specialization/generalization: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00000"/>
                </a:solidFill>
                <a:latin typeface="Arial"/>
              </a:rPr>
              <a:t>Disjointness Constraint: </a:t>
            </a:r>
            <a:endParaRPr b="0" lang="en-US" sz="26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00000"/>
                </a:solidFill>
                <a:latin typeface="Arial"/>
              </a:rPr>
              <a:t>Completeness Constraint: </a:t>
            </a:r>
            <a:endParaRPr b="0" lang="en-US" sz="26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Arial"/>
              </a:rPr>
              <a:t>Slide 4- </a:t>
            </a:r>
            <a:fld id="{340B2385-D65A-402F-A607-49987C02BBDE}" type="slidenum">
              <a:rPr b="1" lang="en-US" sz="1400" spc="-1" strike="noStrike">
                <a:solidFill>
                  <a:srgbClr val="99003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28600" y="303120"/>
            <a:ext cx="779616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Constraints on Specialization and Generalization (4)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39400" y="1600200"/>
            <a:ext cx="829476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00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Disjointness Constraint: 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00000"/>
                </a:solidFill>
                <a:latin typeface="Arial"/>
              </a:rPr>
              <a:t>Specifies that the subclasses of the specialization must be </a:t>
            </a:r>
            <a:r>
              <a:rPr b="0" i="1" lang="en-US" sz="2600" spc="-1" strike="noStrike">
                <a:solidFill>
                  <a:srgbClr val="800000"/>
                </a:solidFill>
                <a:latin typeface="Arial"/>
              </a:rPr>
              <a:t>disjoint</a:t>
            </a:r>
            <a:r>
              <a:rPr b="0" lang="en-US" sz="2600" spc="-1" strike="noStrike">
                <a:solidFill>
                  <a:srgbClr val="800000"/>
                </a:solidFill>
                <a:latin typeface="Arial"/>
              </a:rPr>
              <a:t>:</a:t>
            </a:r>
            <a:endParaRPr b="0" lang="en-US" sz="2600" spc="-1" strike="noStrike">
              <a:solidFill>
                <a:srgbClr val="8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0033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n entity can be a member of at most one of the subclasses of the specialization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00000"/>
                </a:solidFill>
                <a:latin typeface="Arial"/>
              </a:rPr>
              <a:t>Specified by </a:t>
            </a:r>
            <a:r>
              <a:rPr b="1" i="1" lang="en-US" sz="2600" spc="-1" strike="noStrike" u="sng">
                <a:solidFill>
                  <a:srgbClr val="800000"/>
                </a:solidFill>
                <a:uFillTx/>
                <a:latin typeface="Arial"/>
              </a:rPr>
              <a:t>d</a:t>
            </a:r>
            <a:r>
              <a:rPr b="0" lang="en-US" sz="2600" spc="-1" strike="noStrike">
                <a:solidFill>
                  <a:srgbClr val="800000"/>
                </a:solidFill>
                <a:latin typeface="Arial"/>
              </a:rPr>
              <a:t> in EER diagram </a:t>
            </a:r>
            <a:endParaRPr b="0" lang="en-US" sz="26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00000"/>
                </a:solidFill>
                <a:latin typeface="Arial"/>
              </a:rPr>
              <a:t>If not disjoint, specialization is </a:t>
            </a:r>
            <a:r>
              <a:rPr b="0" i="1" lang="en-US" sz="2600" spc="-1" strike="noStrike">
                <a:solidFill>
                  <a:srgbClr val="800000"/>
                </a:solidFill>
                <a:latin typeface="Arial"/>
              </a:rPr>
              <a:t>overlapping</a:t>
            </a:r>
            <a:r>
              <a:rPr b="0" lang="en-US" sz="2600" spc="-1" strike="noStrike">
                <a:solidFill>
                  <a:srgbClr val="800000"/>
                </a:solidFill>
                <a:latin typeface="Arial"/>
              </a:rPr>
              <a:t>:</a:t>
            </a:r>
            <a:endParaRPr b="0" lang="en-US" sz="2600" spc="-1" strike="noStrike">
              <a:solidFill>
                <a:srgbClr val="8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0033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hat is the same entity may be a member of more than one subclass of the specialization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00000"/>
                </a:solidFill>
                <a:latin typeface="Arial"/>
              </a:rPr>
              <a:t>Specified by </a:t>
            </a:r>
            <a:r>
              <a:rPr b="1" i="1" lang="en-US" sz="2600" spc="-1" strike="noStrike" u="sng">
                <a:solidFill>
                  <a:srgbClr val="800000"/>
                </a:solidFill>
                <a:uFillTx/>
                <a:latin typeface="Arial"/>
              </a:rPr>
              <a:t>o</a:t>
            </a:r>
            <a:r>
              <a:rPr b="0" lang="en-US" sz="2600" spc="-1" strike="noStrike">
                <a:solidFill>
                  <a:srgbClr val="800000"/>
                </a:solidFill>
                <a:latin typeface="Arial"/>
              </a:rPr>
              <a:t> in EER diagram </a:t>
            </a:r>
            <a:endParaRPr b="0" lang="en-US" sz="26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Arial"/>
              </a:rPr>
              <a:t>Slide 4- </a:t>
            </a:r>
            <a:fld id="{E6D8D72D-5E2D-4718-BB6E-DEAB42C9FA94}" type="slidenum">
              <a:rPr b="1" lang="en-US" sz="1400" spc="-1" strike="noStrike">
                <a:solidFill>
                  <a:srgbClr val="99003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28600" y="303120"/>
            <a:ext cx="779616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Constraints on Specialization and Generalization (5)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39400" y="1600200"/>
            <a:ext cx="829476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00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ompleteness Constraint: 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800000"/>
                </a:solidFill>
                <a:latin typeface="Arial"/>
              </a:rPr>
              <a:t>Total</a:t>
            </a:r>
            <a:r>
              <a:rPr b="0" lang="en-US" sz="2600" spc="-1" strike="noStrike">
                <a:solidFill>
                  <a:srgbClr val="800000"/>
                </a:solidFill>
                <a:latin typeface="Arial"/>
              </a:rPr>
              <a:t> specifies that every entity in the superclass must be a member of some subclass in the specialization/generalization </a:t>
            </a:r>
            <a:endParaRPr b="0" lang="en-US" sz="26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00000"/>
                </a:solidFill>
                <a:latin typeface="Arial"/>
              </a:rPr>
              <a:t>Shown in EER diagrams by a </a:t>
            </a:r>
            <a:r>
              <a:rPr b="1" i="1" lang="en-US" sz="2600" spc="-1" strike="noStrike" u="sng">
                <a:solidFill>
                  <a:srgbClr val="800000"/>
                </a:solidFill>
                <a:uFillTx/>
                <a:latin typeface="Arial"/>
              </a:rPr>
              <a:t>double line</a:t>
            </a:r>
            <a:r>
              <a:rPr b="0" lang="en-US" sz="26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800000"/>
                </a:solidFill>
                <a:latin typeface="Arial"/>
              </a:rPr>
              <a:t>Partial</a:t>
            </a:r>
            <a:r>
              <a:rPr b="0" lang="en-US" sz="2600" spc="-1" strike="noStrike">
                <a:solidFill>
                  <a:srgbClr val="800000"/>
                </a:solidFill>
                <a:latin typeface="Arial"/>
              </a:rPr>
              <a:t> allows an entity not to belong to any of the subclasses </a:t>
            </a:r>
            <a:endParaRPr b="0" lang="en-US" sz="26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00000"/>
                </a:solidFill>
                <a:latin typeface="Arial"/>
              </a:rPr>
              <a:t>Shown in EER diagrams by a single line</a:t>
            </a:r>
            <a:endParaRPr b="0" lang="en-US" sz="26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Arial"/>
              </a:rPr>
              <a:t>Slide 4- </a:t>
            </a:r>
            <a:fld id="{C74B6B4B-698F-4E02-A15A-12A97432EA28}" type="slidenum">
              <a:rPr b="1" lang="en-US" sz="1400" spc="-1" strike="noStrike">
                <a:solidFill>
                  <a:srgbClr val="99003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303120"/>
            <a:ext cx="779616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Constraints on Specialization and Generalization (6)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39400" y="1600200"/>
            <a:ext cx="829476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00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Hence, we have four types of specialization/generalization: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00000"/>
                </a:solidFill>
                <a:latin typeface="Arial"/>
              </a:rPr>
              <a:t>Disjoint, total </a:t>
            </a:r>
            <a:endParaRPr b="0" lang="en-US" sz="26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00000"/>
                </a:solidFill>
                <a:latin typeface="Arial"/>
              </a:rPr>
              <a:t>Disjoint, partial </a:t>
            </a:r>
            <a:endParaRPr b="0" lang="en-US" sz="26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00000"/>
                </a:solidFill>
                <a:latin typeface="Arial"/>
              </a:rPr>
              <a:t>Overlapping, total </a:t>
            </a:r>
            <a:endParaRPr b="0" lang="en-US" sz="26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00000"/>
                </a:solidFill>
                <a:latin typeface="Arial"/>
              </a:rPr>
              <a:t>Overlapping, partial</a:t>
            </a:r>
            <a:endParaRPr b="0" lang="en-US" sz="26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00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Note: Generalization usually is total because the superclass is derived from the subclasses.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Arial"/>
              </a:rPr>
              <a:t>Slide 4- </a:t>
            </a:r>
            <a:fld id="{FE8CC300-181F-459D-9A65-849EC99FC567}" type="slidenum">
              <a:rPr b="1" lang="en-US" sz="1400" spc="-1" strike="noStrike">
                <a:solidFill>
                  <a:srgbClr val="99003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28600" y="303120"/>
            <a:ext cx="779616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Example of disjoint partial Specialization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167" name="Picture 5" descr="fig04_04"/>
          <p:cNvPicPr/>
          <p:nvPr/>
        </p:nvPicPr>
        <p:blipFill>
          <a:blip r:embed="rId1"/>
          <a:stretch/>
        </p:blipFill>
        <p:spPr>
          <a:xfrm>
            <a:off x="380880" y="1847880"/>
            <a:ext cx="8305920" cy="386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Slide Number Placeholder 1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Arial"/>
              </a:rPr>
              <a:t>Slide 4- </a:t>
            </a:r>
            <a:fld id="{19ABCAC9-BA96-4615-9E49-EDAE64BD5DD1}" type="slidenum">
              <a:rPr b="1" lang="en-US" sz="1400" spc="-1" strike="noStrike">
                <a:solidFill>
                  <a:srgbClr val="99003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3" descr="fig04_05"/>
          <p:cNvPicPr/>
          <p:nvPr/>
        </p:nvPicPr>
        <p:blipFill>
          <a:blip r:embed="rId1"/>
          <a:stretch/>
        </p:blipFill>
        <p:spPr>
          <a:xfrm>
            <a:off x="147600" y="2432160"/>
            <a:ext cx="8539200" cy="237636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4"/>
          <p:cNvSpPr/>
          <p:nvPr/>
        </p:nvSpPr>
        <p:spPr>
          <a:xfrm>
            <a:off x="304920" y="868320"/>
            <a:ext cx="723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Example of overlapping total Spec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Arial"/>
              </a:rPr>
              <a:t>Slide 4- </a:t>
            </a:r>
            <a:fld id="{39CED357-0D04-4507-9D7A-ADE109F959D5}" type="slidenum">
              <a:rPr b="1" lang="en-US" sz="1400" spc="-1" strike="noStrike">
                <a:solidFill>
                  <a:srgbClr val="99003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28600" y="303120"/>
            <a:ext cx="779616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Specialization/Generalization Hierarchies, Lattices &amp; Shared Subclasses (1)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39400" y="1600200"/>
            <a:ext cx="829476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00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A subclass may itself have further subclasses specified on it 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00000"/>
                </a:solidFill>
                <a:latin typeface="Arial"/>
              </a:rPr>
              <a:t>forms a hierarchy or a lattice</a:t>
            </a:r>
            <a:endParaRPr b="0" lang="en-US" sz="26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00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Hierarchy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has a constraint that every subclass has only one superclass (called </a:t>
            </a: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single inheritance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); this is basically a </a:t>
            </a: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tree structure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00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In a </a:t>
            </a: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lattice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, a subclass can be subclass of more than one superclass (called </a:t>
            </a: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multiple inheritance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Slide Number Placeholder 1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Arial"/>
              </a:rPr>
              <a:t>Slide 4- </a:t>
            </a:r>
            <a:fld id="{10AC55DF-CDEE-475A-989E-ED0755E02469}" type="slidenum">
              <a:rPr b="1" lang="en-US" sz="1400" spc="-1" strike="noStrike">
                <a:solidFill>
                  <a:srgbClr val="99003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3" descr="fig04_06"/>
          <p:cNvPicPr/>
          <p:nvPr/>
        </p:nvPicPr>
        <p:blipFill>
          <a:blip r:embed="rId1"/>
          <a:stretch/>
        </p:blipFill>
        <p:spPr>
          <a:xfrm>
            <a:off x="228600" y="2192400"/>
            <a:ext cx="8440560" cy="342432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4"/>
          <p:cNvSpPr/>
          <p:nvPr/>
        </p:nvSpPr>
        <p:spPr>
          <a:xfrm>
            <a:off x="457200" y="83808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Shared Subclass “Engineering_Manag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Arial"/>
              </a:rPr>
              <a:t>Slide 4- </a:t>
            </a:r>
            <a:fld id="{99865BD3-BC6B-494D-B4AB-EBE893AD398E}" type="slidenum">
              <a:rPr b="1" lang="en-US" sz="1400" spc="-1" strike="noStrike">
                <a:solidFill>
                  <a:srgbClr val="99003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28600" y="303120"/>
            <a:ext cx="779616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Specialization/Generalization Hierarchies, Lattices &amp; Shared Subclasses (2)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39400" y="1600200"/>
            <a:ext cx="829476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In a lattice or hierarchy, a subclass inherits attributes not only of its direct superclass, but also of all its predecessor superclasses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 subclass with more than one superclass is called a shared subclass (multiple inheritance)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an have: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800000"/>
                </a:solidFill>
                <a:latin typeface="Arial"/>
              </a:rPr>
              <a:t>specialization</a:t>
            </a: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 hierarchies or lattices, or </a:t>
            </a:r>
            <a:endParaRPr b="0" lang="en-US" sz="22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800000"/>
                </a:solidFill>
                <a:latin typeface="Arial"/>
              </a:rPr>
              <a:t>generalization</a:t>
            </a: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 hierarchies or lattices, </a:t>
            </a:r>
            <a:endParaRPr b="0" lang="en-US" sz="22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depending on how they were </a:t>
            </a:r>
            <a:r>
              <a:rPr b="0" i="1" lang="en-US" sz="2200" spc="-1" strike="noStrike">
                <a:solidFill>
                  <a:srgbClr val="800000"/>
                </a:solidFill>
                <a:latin typeface="Arial"/>
              </a:rPr>
              <a:t>derived</a:t>
            </a:r>
            <a:endParaRPr b="0" lang="en-US" sz="22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We just use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specialization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(to stand for the end result of either specialization or generalization)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Arial"/>
              </a:rPr>
              <a:t>Slide 4- </a:t>
            </a:r>
            <a:fld id="{98A5F6CD-1E8F-4E93-A447-34DE7F6309E1}" type="slidenum">
              <a:rPr b="1" lang="en-US" sz="1400" spc="-1" strike="noStrike">
                <a:solidFill>
                  <a:srgbClr val="99003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8600" y="303120"/>
            <a:ext cx="779616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Specialization/Generalization Hierarchies, Lattices &amp; Shared Subclasses (3)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39400" y="1600200"/>
            <a:ext cx="829476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00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In </a:t>
            </a:r>
            <a:r>
              <a:rPr b="0" i="1" lang="en-US" sz="2800" spc="-1" strike="noStrike">
                <a:solidFill>
                  <a:srgbClr val="333399"/>
                </a:solidFill>
                <a:latin typeface="Arial"/>
              </a:rPr>
              <a:t>specialization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, start with an entity type and then define subclasses of the entity type by successive specialization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00000"/>
                </a:solidFill>
                <a:latin typeface="Arial"/>
              </a:rPr>
              <a:t>called a </a:t>
            </a:r>
            <a:r>
              <a:rPr b="0" i="1" lang="en-US" sz="2600" spc="-1" strike="noStrike">
                <a:solidFill>
                  <a:srgbClr val="800000"/>
                </a:solidFill>
                <a:latin typeface="Arial"/>
              </a:rPr>
              <a:t>top down</a:t>
            </a:r>
            <a:r>
              <a:rPr b="0" lang="en-US" sz="2600" spc="-1" strike="noStrike">
                <a:solidFill>
                  <a:srgbClr val="800000"/>
                </a:solidFill>
                <a:latin typeface="Arial"/>
              </a:rPr>
              <a:t> conceptual refinement process</a:t>
            </a:r>
            <a:endParaRPr b="0" lang="en-US" sz="26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00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In </a:t>
            </a:r>
            <a:r>
              <a:rPr b="0" i="1" lang="en-US" sz="2800" spc="-1" strike="noStrike">
                <a:solidFill>
                  <a:srgbClr val="333399"/>
                </a:solidFill>
                <a:latin typeface="Arial"/>
              </a:rPr>
              <a:t>generalization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, start with many entity types and generalize those that have common properties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00000"/>
                </a:solidFill>
                <a:latin typeface="Arial"/>
              </a:rPr>
              <a:t>Called a </a:t>
            </a:r>
            <a:r>
              <a:rPr b="0" i="1" lang="en-US" sz="2600" spc="-1" strike="noStrike">
                <a:solidFill>
                  <a:srgbClr val="800000"/>
                </a:solidFill>
                <a:latin typeface="Arial"/>
              </a:rPr>
              <a:t>bottom up</a:t>
            </a:r>
            <a:r>
              <a:rPr b="0" lang="en-US" sz="2600" spc="-1" strike="noStrike">
                <a:solidFill>
                  <a:srgbClr val="800000"/>
                </a:solidFill>
                <a:latin typeface="Arial"/>
              </a:rPr>
              <a:t> conceptual synthesis process</a:t>
            </a:r>
            <a:endParaRPr b="0" lang="en-US" sz="26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00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In practice, a </a:t>
            </a:r>
            <a:r>
              <a:rPr b="0" i="1" lang="en-US" sz="2800" spc="-1" strike="noStrike">
                <a:solidFill>
                  <a:srgbClr val="333399"/>
                </a:solidFill>
                <a:latin typeface="Arial"/>
              </a:rPr>
              <a:t>combination of both processes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is usually employed 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Arial"/>
              </a:rPr>
              <a:t>Slide 4- </a:t>
            </a:r>
            <a:fld id="{B6F6DE49-1D51-48BC-BAC0-36BD36C4C777}" type="slidenum">
              <a:rPr b="1" lang="en-US" sz="1400" spc="-1" strike="noStrike">
                <a:solidFill>
                  <a:srgbClr val="99003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303120"/>
            <a:ext cx="779616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Arial"/>
              </a:rPr>
              <a:t>Subclasses and Superclasses (1)</a:t>
            </a: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39400" y="1600200"/>
            <a:ext cx="829476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n entity type may have additional meaningful subgroupings of its entities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Example: EMPLOYEE may be further grouped into: </a:t>
            </a:r>
            <a:endParaRPr b="0" lang="en-US" sz="2200" spc="-1" strike="noStrike">
              <a:solidFill>
                <a:srgbClr val="8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990033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SECRETARY, ENGINEER, TECHNICIAN, …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Based on the EMPLOYEE’s Job</a:t>
            </a: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990033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MANAGER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EMPLOYEEs who are managers</a:t>
            </a: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990033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SALARIED_EMPLOYEE, HOURLY_EMPLOYEE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Based on the EMPLOYEE’s method of pay</a:t>
            </a: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EER diagrams extend ER diagrams to represent these additional subgroupings, called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subclasses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or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subtypes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Arial"/>
              </a:rPr>
              <a:t>Slide 4- </a:t>
            </a:r>
            <a:fld id="{5CC84FCD-F731-4DA6-BB31-DB81D47F8475}" type="slidenum">
              <a:rPr b="1" lang="en-US" sz="1400" spc="-1" strike="noStrike">
                <a:solidFill>
                  <a:srgbClr val="99003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28600" y="303120"/>
            <a:ext cx="779616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Specialization / Generalization Lattice Example </a:t>
            </a: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(UNIVERSITY)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185" name="Picture 5" descr="fig04_07"/>
          <p:cNvPicPr/>
          <p:nvPr/>
        </p:nvPicPr>
        <p:blipFill>
          <a:blip r:embed="rId1"/>
          <a:stretch/>
        </p:blipFill>
        <p:spPr>
          <a:xfrm>
            <a:off x="1676520" y="1600200"/>
            <a:ext cx="5867280" cy="487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Arial"/>
              </a:rPr>
              <a:t>Slide 4- </a:t>
            </a:r>
            <a:fld id="{E72A8482-E0DC-405C-A0D8-184AE96CD9F1}" type="slidenum">
              <a:rPr b="1" lang="en-US" sz="1400" spc="-1" strike="noStrike">
                <a:solidFill>
                  <a:srgbClr val="99003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28600" y="303120"/>
            <a:ext cx="779616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Arial"/>
              </a:rPr>
              <a:t>Categories (UNION TYPES) (1)</a:t>
            </a: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239400" y="1600200"/>
            <a:ext cx="829476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ll of the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superclass/subclass relationships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we have seen thus far have a single superclass 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 shared subclass is a subclass in: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800000"/>
                </a:solidFill>
                <a:latin typeface="Arial"/>
              </a:rPr>
              <a:t>more than one</a:t>
            </a: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 distinct superclass/subclass relationships</a:t>
            </a:r>
            <a:endParaRPr b="0" lang="en-US" sz="22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each relationships has a single superclass</a:t>
            </a:r>
            <a:endParaRPr b="0" lang="en-US" sz="22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shared subclass leads to multiple inheritance</a:t>
            </a:r>
            <a:endParaRPr b="0" lang="en-US" sz="22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In some cases, we need to model a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single superclass/subclass relationship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with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more than one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superclass 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Superclasses can represent different entity types 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Such a subclass is called a category or UNION TYPE 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Arial"/>
              </a:rPr>
              <a:t>Slide 4- </a:t>
            </a:r>
            <a:fld id="{C5508FBA-7F61-46C7-ABFD-A30B7ED2725D}" type="slidenum">
              <a:rPr b="1" lang="en-US" sz="1400" spc="-1" strike="noStrike">
                <a:solidFill>
                  <a:srgbClr val="99003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28600" y="303120"/>
            <a:ext cx="779616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Arial"/>
              </a:rPr>
              <a:t>Categories (UNION TYPES) (2)</a:t>
            </a: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239400" y="1600200"/>
            <a:ext cx="829476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9900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Example: In a database for vehicle registration, a vehicle owner can be a PERSON, a BANK (holding a lien on a vehicle) or a COMPANY.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A </a:t>
            </a:r>
            <a:r>
              <a:rPr b="0" i="1" lang="en-US" sz="2200" spc="-1" strike="noStrike">
                <a:solidFill>
                  <a:srgbClr val="800000"/>
                </a:solidFill>
                <a:latin typeface="Arial"/>
              </a:rPr>
              <a:t>category</a:t>
            </a: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 (UNION type) called OWNER is created to represent a subset of the </a:t>
            </a:r>
            <a:r>
              <a:rPr b="0" i="1" lang="en-US" sz="2200" spc="-1" strike="noStrike">
                <a:solidFill>
                  <a:srgbClr val="800000"/>
                </a:solidFill>
                <a:latin typeface="Arial"/>
              </a:rPr>
              <a:t>union</a:t>
            </a: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 of the three superclasses COMPANY, BANK, and PERSON </a:t>
            </a:r>
            <a:endParaRPr b="0" lang="en-US" sz="2200" spc="-1" strike="noStrike">
              <a:solidFill>
                <a:srgbClr val="800000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A category member must exist in </a:t>
            </a:r>
            <a:r>
              <a:rPr b="1" i="1" lang="en-US" sz="2200" spc="-1" strike="noStrike">
                <a:solidFill>
                  <a:srgbClr val="800000"/>
                </a:solidFill>
                <a:latin typeface="Arial"/>
              </a:rPr>
              <a:t>at least one</a:t>
            </a: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 of its superclasses</a:t>
            </a:r>
            <a:endParaRPr b="0" lang="en-US" sz="2200" spc="-1" strike="noStrike">
              <a:solidFill>
                <a:srgbClr val="8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9900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Difference from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shared subclass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, which is a: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subset of the </a:t>
            </a:r>
            <a:r>
              <a:rPr b="0" i="1" lang="en-US" sz="2200" spc="-1" strike="noStrike">
                <a:solidFill>
                  <a:srgbClr val="800000"/>
                </a:solidFill>
                <a:latin typeface="Arial"/>
              </a:rPr>
              <a:t>intersection</a:t>
            </a: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 of its superclasses</a:t>
            </a:r>
            <a:endParaRPr b="0" lang="en-US" sz="2200" spc="-1" strike="noStrike">
              <a:solidFill>
                <a:srgbClr val="800000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shared subclass member must exist in </a:t>
            </a:r>
            <a:r>
              <a:rPr b="1" i="1" lang="en-US" sz="2200" spc="-1" strike="noStrike">
                <a:solidFill>
                  <a:srgbClr val="800000"/>
                </a:solidFill>
                <a:latin typeface="Arial"/>
              </a:rPr>
              <a:t>all</a:t>
            </a: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 of its superclasses</a:t>
            </a:r>
            <a:endParaRPr b="0" lang="en-US" sz="22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Arial"/>
              </a:rPr>
              <a:t>Slide 4- </a:t>
            </a:r>
            <a:fld id="{313CE8EF-6B37-43C7-B5BB-7CDA9460B11A}" type="slidenum">
              <a:rPr b="1" lang="en-US" sz="1400" spc="-1" strike="noStrike">
                <a:solidFill>
                  <a:srgbClr val="99003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303120"/>
            <a:ext cx="779616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Arial"/>
              </a:rPr>
              <a:t>Two categories (UNION types): OWNER, REGISTERED_VEHICLE</a:t>
            </a: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194" name="Picture 7" descr="fig04_08"/>
          <p:cNvPicPr/>
          <p:nvPr/>
        </p:nvPicPr>
        <p:blipFill>
          <a:blip r:embed="rId1"/>
          <a:stretch/>
        </p:blipFill>
        <p:spPr>
          <a:xfrm>
            <a:off x="2514600" y="1600200"/>
            <a:ext cx="4748040" cy="487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Arial"/>
              </a:rPr>
              <a:t>Slide 4- </a:t>
            </a:r>
            <a:fld id="{6301F286-C42E-4C37-9647-05B8956BB13E}" type="slidenum">
              <a:rPr b="1" lang="en-US" sz="1400" spc="-1" strike="noStrike">
                <a:solidFill>
                  <a:srgbClr val="99003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28600" y="303120"/>
            <a:ext cx="779616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Arial"/>
              </a:rPr>
              <a:t>Formal Definitions of EER Model (1)</a:t>
            </a: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39400" y="1600200"/>
            <a:ext cx="829476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lass C: 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A type of entity with a corresponding set of entities:</a:t>
            </a:r>
            <a:endParaRPr b="0" lang="en-US" sz="2200" spc="-1" strike="noStrike">
              <a:solidFill>
                <a:srgbClr val="8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0033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could be entity type, subclass, superclass, or category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Note: The definition of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relationship type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in ER/EER should have 'entity type' replaced with 'class‘ to allow relationships among classes in general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Subclass S is a class whose: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0033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Type inherits all the attributes and relationship of a class C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0033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Set of entities must always be a subset of the set of entities of the other class C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S </a:t>
            </a:r>
            <a:r>
              <a:rPr b="0" lang="en-US" sz="1800" spc="-1" strike="noStrike">
                <a:solidFill>
                  <a:srgbClr val="800000"/>
                </a:solidFill>
                <a:latin typeface="Arial"/>
                <a:ea typeface="ヒラギノ角ゴ Pro W3"/>
              </a:rPr>
              <a:t>⊆</a:t>
            </a: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 C</a:t>
            </a: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0033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C is called the superclass of S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0033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A superclass/subclass relationship exists between S and C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Arial"/>
              </a:rPr>
              <a:t>Slide 4- </a:t>
            </a:r>
            <a:fld id="{EDFD808B-B106-4FDE-BC6F-86DBD6B8D479}" type="slidenum">
              <a:rPr b="1" lang="en-US" sz="1400" spc="-1" strike="noStrike">
                <a:solidFill>
                  <a:srgbClr val="99003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28600" y="303120"/>
            <a:ext cx="779616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Arial"/>
              </a:rPr>
              <a:t>Formal Definitions of EER Model (2)</a:t>
            </a: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39400" y="1600200"/>
            <a:ext cx="829476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00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pecialization Z: Z = {S1, S2,…, Sn} is a set of subclasses with same superclass G; hence, G/Si is a superclass relationship for i = 1, …., n.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00000"/>
                </a:solidFill>
                <a:latin typeface="Arial"/>
              </a:rPr>
              <a:t>G is called a generalization of the subclasses {S1, S2,…, Sn} </a:t>
            </a:r>
            <a:endParaRPr b="0" lang="en-US" sz="26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00000"/>
                </a:solidFill>
                <a:latin typeface="Arial"/>
              </a:rPr>
              <a:t>Z is total if we always have:</a:t>
            </a:r>
            <a:endParaRPr b="0" lang="en-US" sz="2600" spc="-1" strike="noStrike">
              <a:solidFill>
                <a:srgbClr val="8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990033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S1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ヒラギノ角ゴ Pro W3"/>
              </a:rPr>
              <a:t>∪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S2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ヒラギノ角ゴ Pro W3"/>
              </a:rPr>
              <a:t>∪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…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ヒラギノ角ゴ Pro W3"/>
              </a:rPr>
              <a:t>∪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Sn = G;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990033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Otherwise, Z is partial.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00000"/>
                </a:solidFill>
                <a:latin typeface="Arial"/>
              </a:rPr>
              <a:t>Z is disjoint if we always have:</a:t>
            </a:r>
            <a:endParaRPr b="0" lang="en-US" sz="2600" spc="-1" strike="noStrike">
              <a:solidFill>
                <a:srgbClr val="8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990033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Si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ヒラギノ角ゴ Pro W3"/>
              </a:rPr>
              <a:t>∩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S2 empty-set for i ≠ j;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00000"/>
                </a:solidFill>
                <a:latin typeface="Arial"/>
              </a:rPr>
              <a:t>Otherwise, Z is overlapping.</a:t>
            </a:r>
            <a:endParaRPr b="0" lang="en-US" sz="26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Arial"/>
              </a:rPr>
              <a:t>Slide 4- </a:t>
            </a:r>
            <a:fld id="{424465E4-30C9-4A3C-A6F3-49175AFDA067}" type="slidenum">
              <a:rPr b="1" lang="en-US" sz="1400" spc="-1" strike="noStrike">
                <a:solidFill>
                  <a:srgbClr val="99003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28600" y="303120"/>
            <a:ext cx="779616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Arial"/>
              </a:rPr>
              <a:t>Formal Definitions of EER Model (3)</a:t>
            </a: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239400" y="1600200"/>
            <a:ext cx="829476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Subclass S of C is predicate defined if predicate (condition)  p on attributes of C is used to specify membership in S; 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that is, S = C[p], where C[p] is the set of entities in C that satisfy condition p</a:t>
            </a:r>
            <a:endParaRPr b="0" lang="en-US" sz="22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 subclass not defined by a predicate is called user-defined 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ttribute-defined specialization: if a predicate A = ci (where A is an attribute of G and ci is a constant value from the domain of A) is used to specify membership in each subclass Si in Z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Note: If ci ≠ cj for i ≠ j, and A is single-valued, then the attribute-defined specialization will be disjoint.</a:t>
            </a:r>
            <a:endParaRPr b="0" lang="en-US" sz="22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Arial"/>
              </a:rPr>
              <a:t>Slide 4- </a:t>
            </a:r>
            <a:fld id="{A80D1DC5-F53A-47AD-AE7D-A33BDFD8F27A}" type="slidenum">
              <a:rPr b="1" lang="en-US" sz="1400" spc="-1" strike="noStrike">
                <a:solidFill>
                  <a:srgbClr val="99003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28600" y="303120"/>
            <a:ext cx="779616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Arial"/>
              </a:rPr>
              <a:t>Formal Definitions of EER Model (4)</a:t>
            </a: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39400" y="1600200"/>
            <a:ext cx="829476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00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ategory or UNION type T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00000"/>
                </a:solidFill>
                <a:latin typeface="Arial"/>
              </a:rPr>
              <a:t>A class that is a subset of the </a:t>
            </a:r>
            <a:r>
              <a:rPr b="0" i="1" lang="en-US" sz="2600" spc="-1" strike="noStrike">
                <a:solidFill>
                  <a:srgbClr val="800000"/>
                </a:solidFill>
                <a:latin typeface="Arial"/>
              </a:rPr>
              <a:t>union</a:t>
            </a:r>
            <a:r>
              <a:rPr b="0" lang="en-US" sz="2600" spc="-1" strike="noStrike">
                <a:solidFill>
                  <a:srgbClr val="800000"/>
                </a:solidFill>
                <a:latin typeface="Arial"/>
              </a:rPr>
              <a:t> of n defining superclasses </a:t>
            </a:r>
            <a:br>
              <a:rPr sz="2600"/>
            </a:br>
            <a:r>
              <a:rPr b="0" lang="en-US" sz="2600" spc="-1" strike="noStrike">
                <a:solidFill>
                  <a:srgbClr val="800000"/>
                </a:solidFill>
                <a:latin typeface="Arial"/>
              </a:rPr>
              <a:t>D1, D2,…Dn, n&gt;1:</a:t>
            </a:r>
            <a:endParaRPr b="0" lang="en-US" sz="2600" spc="-1" strike="noStrike">
              <a:solidFill>
                <a:srgbClr val="8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0033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ヒラギノ角ゴ Pro W3"/>
              </a:rPr>
              <a:t>⊆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(D1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ヒラギノ角ゴ Pro W3"/>
              </a:rPr>
              <a:t>∪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D2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ヒラギノ角ゴ Pro W3"/>
              </a:rPr>
              <a:t>∪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…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ヒラギノ角ゴ Pro W3"/>
              </a:rPr>
              <a:t>∪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Dn)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00000"/>
                </a:solidFill>
                <a:latin typeface="Arial"/>
              </a:rPr>
              <a:t>Can have a predicate pi on the attributes of Di to specify entities of Di that are members of T. </a:t>
            </a:r>
            <a:endParaRPr b="0" lang="en-US" sz="26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00000"/>
                </a:solidFill>
                <a:latin typeface="Arial"/>
              </a:rPr>
              <a:t>If a predicate is specified on every Di: T = (D1[p1] </a:t>
            </a:r>
            <a:r>
              <a:rPr b="0" lang="en-US" sz="2600" spc="-1" strike="noStrike">
                <a:solidFill>
                  <a:srgbClr val="800000"/>
                </a:solidFill>
                <a:latin typeface="Arial"/>
                <a:ea typeface="ヒラギノ角ゴ Pro W3"/>
              </a:rPr>
              <a:t>∪</a:t>
            </a:r>
            <a:r>
              <a:rPr b="0" lang="en-US" sz="2600" spc="-1" strike="noStrike">
                <a:solidFill>
                  <a:srgbClr val="800000"/>
                </a:solidFill>
                <a:latin typeface="Arial"/>
              </a:rPr>
              <a:t> D2[p2] </a:t>
            </a:r>
            <a:r>
              <a:rPr b="0" lang="en-US" sz="2600" spc="-1" strike="noStrike">
                <a:solidFill>
                  <a:srgbClr val="800000"/>
                </a:solidFill>
                <a:latin typeface="Arial"/>
                <a:ea typeface="ヒラギノ角ゴ Pro W3"/>
              </a:rPr>
              <a:t>∪</a:t>
            </a:r>
            <a:r>
              <a:rPr b="0" lang="en-US" sz="2600" spc="-1" strike="noStrike">
                <a:solidFill>
                  <a:srgbClr val="800000"/>
                </a:solidFill>
                <a:latin typeface="Arial"/>
              </a:rPr>
              <a:t>…</a:t>
            </a:r>
            <a:r>
              <a:rPr b="0" lang="en-US" sz="2600" spc="-1" strike="noStrike">
                <a:solidFill>
                  <a:srgbClr val="800000"/>
                </a:solidFill>
                <a:latin typeface="Arial"/>
                <a:ea typeface="ヒラギノ角ゴ Pro W3"/>
              </a:rPr>
              <a:t>∪</a:t>
            </a:r>
            <a:r>
              <a:rPr b="0" lang="en-US" sz="2600" spc="-1" strike="noStrike">
                <a:solidFill>
                  <a:srgbClr val="800000"/>
                </a:solidFill>
                <a:latin typeface="Arial"/>
              </a:rPr>
              <a:t> Dn[pn])</a:t>
            </a:r>
            <a:endParaRPr b="0" lang="en-US" sz="26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Arial"/>
              </a:rPr>
              <a:t>Slide 4- </a:t>
            </a:r>
            <a:fld id="{0A782AD1-F962-4554-8D91-FEC6F22D4270}" type="slidenum">
              <a:rPr b="1" lang="en-US" sz="1400" spc="-1" strike="noStrike">
                <a:solidFill>
                  <a:srgbClr val="99003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28600" y="303120"/>
            <a:ext cx="779616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Arial"/>
              </a:rPr>
              <a:t>Alternative diagrammatic notations</a:t>
            </a: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39400" y="1600200"/>
            <a:ext cx="829476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00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ER/EER diagrams are a specific notation for displaying the concepts of the model diagrammatically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00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DB design tools use many alternative notations for the same or similar concepts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00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One popular alternative notation uses </a:t>
            </a:r>
            <a:r>
              <a:rPr b="0" i="1" lang="en-US" sz="2800" spc="-1" strike="noStrike">
                <a:solidFill>
                  <a:srgbClr val="333399"/>
                </a:solidFill>
                <a:latin typeface="Arial"/>
              </a:rPr>
              <a:t>UML class diagrams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00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ee next slides for UML class diagrams and other alternative notations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Arial"/>
              </a:rPr>
              <a:t>Slide 4- </a:t>
            </a:r>
            <a:fld id="{8318F05F-B80B-4853-9BA5-943B5B712164}" type="slidenum">
              <a:rPr b="1" lang="en-US" sz="1400" spc="-1" strike="noStrike">
                <a:solidFill>
                  <a:srgbClr val="99003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28600" y="303120"/>
            <a:ext cx="779616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Arial"/>
              </a:rPr>
              <a:t>UML Example for Displaying Specialization / Generalization</a:t>
            </a: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212" name="Picture 7" descr="fig04_10"/>
          <p:cNvPicPr/>
          <p:nvPr/>
        </p:nvPicPr>
        <p:blipFill>
          <a:blip r:embed="rId1"/>
          <a:stretch/>
        </p:blipFill>
        <p:spPr>
          <a:xfrm>
            <a:off x="2212920" y="1590840"/>
            <a:ext cx="4645080" cy="4962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Arial"/>
              </a:rPr>
              <a:t>Slide 4- </a:t>
            </a:r>
            <a:fld id="{580ED158-AAAA-4EDB-AE73-C8D8D1BFB201}" type="slidenum">
              <a:rPr b="1" lang="en-US" sz="1400" spc="-1" strike="noStrike">
                <a:solidFill>
                  <a:srgbClr val="99003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3" descr="fig04_01"/>
          <p:cNvPicPr/>
          <p:nvPr/>
        </p:nvPicPr>
        <p:blipFill>
          <a:blip r:embed="rId1"/>
          <a:stretch/>
        </p:blipFill>
        <p:spPr>
          <a:xfrm>
            <a:off x="990720" y="1619280"/>
            <a:ext cx="7467480" cy="474336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4"/>
          <p:cNvSpPr/>
          <p:nvPr/>
        </p:nvSpPr>
        <p:spPr>
          <a:xfrm>
            <a:off x="838080" y="593640"/>
            <a:ext cx="7010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Subclasses and Supercla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Arial"/>
              </a:rPr>
              <a:t>Slide 4- </a:t>
            </a:r>
            <a:fld id="{4998D83D-BE35-4B5D-A50C-AB2FD1337BFB}" type="slidenum">
              <a:rPr b="1" lang="en-US" sz="1400" spc="-1" strike="noStrike">
                <a:solidFill>
                  <a:srgbClr val="99003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28600" y="303120"/>
            <a:ext cx="779616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Arial"/>
              </a:rPr>
              <a:t>Alternative Diagrammatic Notations</a:t>
            </a: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215" name="Picture 16" descr="figA_01"/>
          <p:cNvPicPr/>
          <p:nvPr/>
        </p:nvPicPr>
        <p:blipFill>
          <a:blip r:embed="rId1"/>
          <a:stretch/>
        </p:blipFill>
        <p:spPr>
          <a:xfrm>
            <a:off x="2435400" y="1523880"/>
            <a:ext cx="4041720" cy="508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Arial"/>
              </a:rPr>
              <a:t>Slide 4- </a:t>
            </a:r>
            <a:fld id="{0BB76159-FB0E-4389-ABC5-FF6E549C2D39}" type="slidenum">
              <a:rPr b="1" lang="en-US" sz="1400" spc="-1" strike="noStrike">
                <a:solidFill>
                  <a:srgbClr val="99003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28600" y="303120"/>
            <a:ext cx="779616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General Conceptual Modeling Concepts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39400" y="1600200"/>
            <a:ext cx="829476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00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GENERAL DATA ABSTRACTIONS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00000"/>
                </a:solidFill>
                <a:latin typeface="Arial"/>
              </a:rPr>
              <a:t>CLASSIFICATION and INSTANTIATION</a:t>
            </a:r>
            <a:endParaRPr b="0" lang="en-US" sz="26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00000"/>
                </a:solidFill>
                <a:latin typeface="Arial"/>
              </a:rPr>
              <a:t>AGGREGATION and ASSOCIATION (relationships)</a:t>
            </a:r>
            <a:endParaRPr b="0" lang="en-US" sz="26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00000"/>
                </a:solidFill>
                <a:latin typeface="Arial"/>
              </a:rPr>
              <a:t>GENERALIZATION and SPECIALIZATION</a:t>
            </a:r>
            <a:endParaRPr b="0" lang="en-US" sz="26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00000"/>
                </a:solidFill>
                <a:latin typeface="Arial"/>
              </a:rPr>
              <a:t>IDENTIFICATION</a:t>
            </a:r>
            <a:endParaRPr b="0" lang="en-US" sz="26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00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ONSTRAINTS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00000"/>
                </a:solidFill>
                <a:latin typeface="Arial"/>
              </a:rPr>
              <a:t>CARDINALITY (Min and Max)</a:t>
            </a:r>
            <a:endParaRPr b="0" lang="en-US" sz="26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00000"/>
                </a:solidFill>
                <a:latin typeface="Arial"/>
              </a:rPr>
              <a:t>COVERAGE (Total vs. Partial, and Exclusive (disjoint) vs. Overlapping)</a:t>
            </a:r>
            <a:endParaRPr b="0" lang="en-US" sz="26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Arial"/>
              </a:rPr>
              <a:t>Slide 4- </a:t>
            </a:r>
            <a:fld id="{88AB4B53-BFCD-4D21-A407-06771B0456E5}" type="slidenum">
              <a:rPr b="1" lang="en-US" sz="1400" spc="-1" strike="noStrike">
                <a:solidFill>
                  <a:srgbClr val="99003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28600" y="303120"/>
            <a:ext cx="779616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Arial"/>
              </a:rPr>
              <a:t>Summary</a:t>
            </a: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39400" y="1600200"/>
            <a:ext cx="829476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00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Introduced the EER model concepts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00000"/>
                </a:solidFill>
                <a:latin typeface="Arial"/>
              </a:rPr>
              <a:t>Class/subclass relationships</a:t>
            </a:r>
            <a:endParaRPr b="0" lang="en-US" sz="26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00000"/>
                </a:solidFill>
                <a:latin typeface="Arial"/>
              </a:rPr>
              <a:t>Specialization and generalization</a:t>
            </a:r>
            <a:endParaRPr b="0" lang="en-US" sz="26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00000"/>
                </a:solidFill>
                <a:latin typeface="Arial"/>
              </a:rPr>
              <a:t>Inheritance</a:t>
            </a:r>
            <a:endParaRPr b="0" lang="en-US" sz="26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00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These augment the basic ER model concepts introduced in Chapter 3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00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EER diagrams and alternative notations were presented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Arial"/>
              </a:rPr>
              <a:t>Slide 4- </a:t>
            </a:r>
            <a:fld id="{4DC6004B-EFB7-491D-9D4D-AD0927386D87}" type="slidenum">
              <a:rPr b="1" lang="en-US" sz="1400" spc="-1" strike="noStrike">
                <a:solidFill>
                  <a:srgbClr val="99003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303120"/>
            <a:ext cx="779616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Arial"/>
              </a:rPr>
              <a:t>Subclasses and Superclasses (2)</a:t>
            </a: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39400" y="1600200"/>
            <a:ext cx="829476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Each of these subgroupings is a subset of EMPLOYEE entities 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Each is called a subclass of EMPLOYEE 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EMPLOYEE is the superclass for each of these subclasses 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hese are called superclass/subclass relationships: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EMPLOYEE/SECRETARY</a:t>
            </a:r>
            <a:endParaRPr b="0" lang="en-US" sz="22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EMPLOYEE/TECHNICIAN</a:t>
            </a:r>
            <a:endParaRPr b="0" lang="en-US" sz="22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EMPLOYEE/MANAGER</a:t>
            </a:r>
            <a:endParaRPr b="0" lang="en-US" sz="22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…</a:t>
            </a:r>
            <a:endParaRPr b="0" lang="en-US" sz="22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Arial"/>
              </a:rPr>
              <a:t>Slide 4- </a:t>
            </a:r>
            <a:fld id="{432EE1DB-8124-4D50-B486-5849D03C8B5A}" type="slidenum">
              <a:rPr b="1" lang="en-US" sz="1400" spc="-1" strike="noStrike">
                <a:solidFill>
                  <a:srgbClr val="99003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303120"/>
            <a:ext cx="779616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Arial"/>
              </a:rPr>
              <a:t>Subclasses and Superclasses (3)</a:t>
            </a: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39400" y="1600200"/>
            <a:ext cx="829476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hese are also called IS-A relationships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SECRETARY IS-A EMPLOYEE, TECHNICIAN IS-A EMPLOYEE, ….</a:t>
            </a:r>
            <a:endParaRPr b="0" lang="en-US" sz="22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Note: An entity that is member of a subclass represents the same real-world entity as some member of the superclass: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The subclass member is the same entity in a </a:t>
            </a:r>
            <a:r>
              <a:rPr b="0" i="1" lang="en-US" sz="2200" spc="-1" strike="noStrike">
                <a:solidFill>
                  <a:srgbClr val="800000"/>
                </a:solidFill>
                <a:latin typeface="Arial"/>
              </a:rPr>
              <a:t>distinct specific role</a:t>
            </a: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An entity cannot exist in the database merely by being a member of a subclass; it must also be a member of the superclass </a:t>
            </a:r>
            <a:endParaRPr b="0" lang="en-US" sz="22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A member of the superclass can be optionally included as a member of any number of its subclasses</a:t>
            </a:r>
            <a:endParaRPr b="0" lang="en-US" sz="22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Arial"/>
              </a:rPr>
              <a:t>Slide 4- </a:t>
            </a:r>
            <a:fld id="{C3F937C6-43D5-45AB-BDE0-056FF10A3A2B}" type="slidenum">
              <a:rPr b="1" lang="en-US" sz="1400" spc="-1" strike="noStrike">
                <a:solidFill>
                  <a:srgbClr val="99003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303120"/>
            <a:ext cx="779616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Arial"/>
              </a:rPr>
              <a:t>Subclasses and Superclasses (4)</a:t>
            </a: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39400" y="1600200"/>
            <a:ext cx="829476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9900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Examples: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A salaried employee who is also an engineer belongs to the two subclasses:</a:t>
            </a:r>
            <a:endParaRPr b="0" lang="en-US" sz="2200" spc="-1" strike="noStrike">
              <a:solidFill>
                <a:srgbClr val="8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990033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ENGINEER, and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990033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SALARIED_EMPLOYEE 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A salaried employee who is also an engineering manager belongs to the three subclasses:</a:t>
            </a:r>
            <a:endParaRPr b="0" lang="en-US" sz="2200" spc="-1" strike="noStrike">
              <a:solidFill>
                <a:srgbClr val="8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990033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MANAGER,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990033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ENGINEER, and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990033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SALARIED_EMPLOYEE 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9900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It is not necessary that every entity in a superclass be a member of some subclass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Arial"/>
              </a:rPr>
              <a:t>Slide 4- </a:t>
            </a:r>
            <a:fld id="{87315935-B8D1-4170-887D-AA6C97D2A072}" type="slidenum">
              <a:rPr b="1" lang="en-US" sz="1400" spc="-1" strike="noStrike">
                <a:solidFill>
                  <a:srgbClr val="99003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303120"/>
            <a:ext cx="779616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Representing Specialization in EER Diagrams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119" name="Picture 4" descr="fig04_04"/>
          <p:cNvPicPr/>
          <p:nvPr/>
        </p:nvPicPr>
        <p:blipFill>
          <a:blip r:embed="rId1"/>
          <a:stretch/>
        </p:blipFill>
        <p:spPr>
          <a:xfrm>
            <a:off x="325440" y="1820880"/>
            <a:ext cx="8285040" cy="3857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Arial"/>
              </a:rPr>
              <a:t>Slide 4- </a:t>
            </a:r>
            <a:fld id="{1E236984-47DC-497C-8544-F3CA849940A1}" type="slidenum">
              <a:rPr b="1" lang="en-US" sz="1400" spc="-1" strike="noStrike">
                <a:solidFill>
                  <a:srgbClr val="99003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303120"/>
            <a:ext cx="779616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Attribute Inheritance in Superclass / Subclass Relationships 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39400" y="1600200"/>
            <a:ext cx="829476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00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An entity that is member of a subclass </a:t>
            </a:r>
            <a:r>
              <a:rPr b="0" i="1" lang="en-US" sz="2800" spc="-1" strike="noStrike">
                <a:solidFill>
                  <a:srgbClr val="333399"/>
                </a:solidFill>
                <a:latin typeface="Arial"/>
              </a:rPr>
              <a:t>inherits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00000"/>
                </a:solidFill>
                <a:latin typeface="Arial"/>
              </a:rPr>
              <a:t>All attributes of the entity as a member of the superclass </a:t>
            </a:r>
            <a:endParaRPr b="0" lang="en-US" sz="26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00000"/>
                </a:solidFill>
                <a:latin typeface="Arial"/>
              </a:rPr>
              <a:t>All relationships of the entity as a member of the superclass</a:t>
            </a:r>
            <a:endParaRPr b="0" lang="en-US" sz="26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00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Example: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00000"/>
                </a:solidFill>
                <a:latin typeface="Arial"/>
              </a:rPr>
              <a:t>In the previous slide, SECRETARY (as well as TECHNICIAN and ENGINEER) inherit the attributes Name, SSN, …, from EMPLOYEE</a:t>
            </a:r>
            <a:endParaRPr b="0" lang="en-US" sz="26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00000"/>
                </a:solidFill>
                <a:latin typeface="Arial"/>
              </a:rPr>
              <a:t>Every SECRETARY entity will have values for the inherited attributes</a:t>
            </a:r>
            <a:endParaRPr b="0" lang="en-US" sz="2600" spc="-1" strike="noStrike">
              <a:solidFill>
                <a:srgbClr val="8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5T19:46:41Z</dcterms:created>
  <dc:creator>Elmasri/Navathe</dc:creator>
  <dc:description/>
  <dc:language>en-US</dc:language>
  <cp:lastModifiedBy>Emad</cp:lastModifiedBy>
  <cp:lastPrinted>2001-11-04T00:51:13Z</cp:lastPrinted>
  <dcterms:modified xsi:type="dcterms:W3CDTF">2016-02-02T17:55:15Z</dcterms:modified>
  <cp:revision>58</cp:revision>
  <dc:subject>Enhanced Entity-Relationship (EER) Modeling</dc:subject>
  <dc:title>Chapter 4</dc:title>
</cp:coreProperties>
</file>