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CF2E-DAC4-41DE-BE45-BA3F5CCD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cerning students, courses, and grades in a universit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_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REQUI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4880"/>
            <a:ext cx="807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ucture of records of each file by specify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of alphabetic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990720" y="625320"/>
            <a:ext cx="677844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UNIVERSITY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data to represent each student, course, section, grade report, and prerequisite as a record in appropriat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among th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on involves querying and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the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names of students who took the section of the ‘Database’ course offered in fall 2008 and their grades i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prerequisites of the ‘Database’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class of ‘Smith’ to sopho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ection for the ‘Database’ course for this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grade of ‘A’ for ‘Smith’ in the ‘Database’ section of last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for designing a datab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specification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l 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5202360" cy="320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4546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the Databas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defines and implements the files needed for a specific software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repository maintains data that is defined once and then accessed by various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the Database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racteristics of databas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scribing nature of a databas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lation between programs and data, and data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f multiple view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of data and multiuser transac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ors on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behind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Using the DB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t to Use a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Describing Nature of a Databas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system contains complete definition of structure and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atalog us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users who need information about databas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ulation Between Programs an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-data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data files is stored in DBMS catalog separately from acc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-oper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in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includes operation name and data types of its arg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can be changed without affecting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rogram-data independence and program-operation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represen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nclude details of how data is stored or how operations 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data abstraction used to provide conceptu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990720" y="723960"/>
            <a:ext cx="70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of Multiple Views of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 of the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the database files but is not explicitly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user DB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have a variety of distinc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facilities for defining multipl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f Data and Multiuser Transactio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multiple users to access the database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control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several users trying to update the same data do so in a controlled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the updates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 transaction processing (OLTP)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f Data and Multiuser Transaction Processing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to many databas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ng program or process that includes one or more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nsaction appears to execute in isolation from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all the database operations in a transaction are executed or non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administrators (DB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sponsible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ing access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ng and monitoring its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software and hardwa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sponsible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data to be st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ppropriate structures to represent and store thi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se jobs require access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metric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isticated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lon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analy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quirements of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program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these specifications a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 databas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textual or numer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images, audio clips, and video streams digi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ic information systems (G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nd analyze maps, weather data, and satellite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s behind the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BMS system designers and implem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implement the DBMS modules and interfaces as a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impl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running and maintenance of hardware and software environment for databas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norm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necessary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 performance of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ng unauthorized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uthorization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age for program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object in C++ can be stored permanently in an object-oriented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edance mismatch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database systems typically offer data struc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storage structures and search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chniques for efficient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uffering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 processing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backup and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and recovery sub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DBMS is responsible for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ultiple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user interfaces (G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complex relationships amo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clude numerous varieties of data that are interrelated 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a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ection record must be related to a cours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ourse record must have a unique value for Course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ent ru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ting inferencing and actions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databa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apabilities for defining dedu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ing new information from the stored databas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activated by updates to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volved procedures to enfor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mplications of using the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application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up-to-d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Not to Use a DB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sirable to use regular fi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well-defined database applications not expected to chang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ent, real-time requirements that may not be met because of DBMS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ystems with limited storage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ltiple-user 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related data (recorded fa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software package for implementing and maintaining a computerized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ategories of databas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pplications have e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ends: IR,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warehouses and online analytical processing (OLAP)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and analyze useful business information from very large datab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time and active database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industrial and manufactur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rel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facts that can be recorded and that have implicit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wor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e of discourse (U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some aspect of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ly coherent collection of data with inherent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large commerci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anagement system (DB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users to create and maintain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data types, structures, and constraints of the data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definition or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by the DBMS in the form of a database catalog or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ipu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and update the database mini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ultiple users and programs to access the database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es database by sending queries to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some data to be retr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ause some data to be read and some data to be written in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atabas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he system to evolve as requirements 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/>
  <dc:description/>
  <dc:language>en-US</dc:language>
  <cp:lastModifiedBy>user</cp:lastModifiedBy>
  <dcterms:modified xsi:type="dcterms:W3CDTF">2016-02-02T11:09:32Z</dcterms:modified>
  <cp:revision>36</cp:revision>
  <dc:subject/>
  <dc:title>Slide 1</dc:title>
</cp:coreProperties>
</file>