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0BC3-3E9F-4590-9005-478EEE3AF19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90B-2CB7-4904-88C6-76AA0659732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7C6F-25A2-4F54-990E-EA388EF3D55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E800-7891-46AB-90D6-CA837841367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D5EE-8D1E-4AA3-B956-3AA6717A7B9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E551-4261-4C61-B0ED-40CAD1532D1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7146-5AB0-45C3-BE73-52F396C7D1A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5B8-11B4-4655-88FA-EA523B7C123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F919-8C28-4D86-9F94-F05BCCCAE0E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344-5115-45A3-B5B3-CE1EC2EC85F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682-126A-4F5A-955F-4E93DF79675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C9D-5CE3-4282-861C-BF358C63DCF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869A-8DF1-485F-97E6-6391DC4395E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0049-2F4D-47C1-B37F-56E4A04F73F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4FA7-7A2E-4737-B1D4-28E67DC5ADC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2271-24CF-485D-8C2F-DD0D2371692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9A85-4511-4CB8-8505-0BB475391D9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EC4B-5BE4-4165-AEE9-E6F0FD5780F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FC6-B43F-485D-9328-DEE18F02451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009E-E6F7-44E0-923A-3EE69B82A64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9E98-B20E-4D6B-B94E-FA5CB34DE63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84C8-4385-4D20-B208-FADCB371DAD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49F-98E2-46C9-8F3F-61319EA6F1D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BB9-EB44-4450-9B8C-B44C1FA5C2A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488E-D570-444B-8614-099036E66C7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C02A-18A6-485C-8405-AA8765C57C4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B6C4-DA56-43AB-8707-80B9B1268A8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1D0-7085-403B-ACD3-9209E0E745B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EB31-A50E-496E-97E5-B912DC38682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06DC-6AAC-44F6-BFA4-B31B36C2A9B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3930-9FC8-4D65-AE26-29EBB8D7506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570-A0D8-4A71-A299-92B50A5EAA4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EA6-9FC5-4F2E-8FBD-25527BF6872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576-FD62-4908-AC65-A34B1C7DEA9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57B2-8177-48A4-B641-6F8DA540EEC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8D09-3B0F-4DCA-BFC9-1C6A12C8983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0A2B-8C83-4E1A-8D20-A422700DA4F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B74-DC16-4B2D-8A4D-764DF6EE328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6807-AD1E-4CC1-BD2B-9A4DBD24532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75E1-6506-481B-80C4-B7A3699A220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9F02-D11B-40CF-884F-7CB6CC005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29D2-6E42-4AA0-9799-55BEE7305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30BD-AA64-4D8F-A912-590BF5965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5BF1-E50D-456E-B98D-EC03505BE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12F5-6280-4749-81B1-1554988E9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F1FD-51CE-4CA4-85C0-E0EB44C25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72E5-13B2-4CDC-91EC-C126BE62A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69D6-EAE9-4A6D-BE3A-4817C53C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D397-8048-4CBF-894B-805B1A75F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E4CC-5989-4FB3-B60C-DDCFC90D9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209D-7D30-4D42-AF78-225FD81B4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A41D-86F2-4A75-8EF5-538EF467F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3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C086A08-FB67-455F-BF2C-1D4B9AD5CFB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Rectangle 30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4"/>
          <p:cNvSpPr/>
          <p:nvPr/>
        </p:nvSpPr>
        <p:spPr>
          <a:xfrm>
            <a:off x="830592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677228">
                  <a:alpha val="44313"/>
                </a:srgbClr>
              </a:gs>
              <a:gs pos="100000">
                <a:srgbClr val="5a64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5" descr="awtri_4c UPDATE_color"/>
          <p:cNvPicPr/>
          <p:nvPr/>
        </p:nvPicPr>
        <p:blipFill>
          <a:blip r:embed="rId2"/>
          <a:stretch/>
        </p:blipFill>
        <p:spPr>
          <a:xfrm>
            <a:off x="76320" y="5950080"/>
            <a:ext cx="684000" cy="83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elmasri_thumb"/>
          <p:cNvPicPr/>
          <p:nvPr/>
        </p:nvPicPr>
        <p:blipFill>
          <a:blip r:embed="rId3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83772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BAE02E46-238C-4DDC-A6AD-404F43E6113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Picture 11" descr="Elmasri_c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A8C966A-6910-411E-B8A0-4435EA3ED00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Tupl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up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an ordered set of values (enclosed in angled brackets ‘&lt; … &gt;’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value is derived from an appropri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row in the CUSTOMER relation is a 4-tuple and would consist of four values, for exampl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&lt;632895, "John Smith", "101 Main St. Atlanta, GA  30332", "(404) 894-2000"&gt;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is is called a 4-tuple as it has 4 valu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tuple (row) in the CUSTOMER relation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relation is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 such tuples (row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B3378A1B-F21A-40DE-BAC7-0BF3C8B176E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Domai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has a logical definition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0000"/>
                </a:solidFill>
                <a:latin typeface="Arial"/>
              </a:rPr>
              <a:t>Example: “USA_phone_numbers” are the set of 10 digit phone numbers valid in the U.S.</a:t>
            </a:r>
            <a:endParaRPr b="0" lang="en-US" sz="19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domain also has a data-type or a format defined for i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0000"/>
                </a:solidFill>
                <a:latin typeface="Arial"/>
              </a:rPr>
              <a:t>The USA_phone_numbers may have a format: (ddd)ddd-dddd where each d is a decimal digit.</a:t>
            </a:r>
            <a:endParaRPr b="0" lang="en-US" sz="19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ates have various formats such as year, month, date formatted as yyyy-mm-dd, or as dd mm,yyyy etc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attribute name designates the role played by a domain in a relation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Used to interpret the meaning of the data elements corresponding to that attribut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0000"/>
                </a:solidFill>
                <a:latin typeface="Arial"/>
              </a:rPr>
              <a:t>Example: The domain Date may be used to define two attributes named “Invoice-date” and “Payment-date” with different meanings</a:t>
            </a:r>
            <a:endParaRPr b="0" lang="en-US" sz="1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50968A25-C61B-4F2D-AB70-C2943272371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Stat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 st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a subset of the Cartesian product of the domains of its attribu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domain contains the set of all possible values the attribute can tak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: attribute Cust-name is defined over the domain of character strings of maximum length 2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om(Cust-name) is varchar(25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role these strings play in the CUSTOMER relation is that of th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ame of a custome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9561807-6963-4959-B4D2-B4CF2DD7782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mally,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Given R(A1, A2, .........., An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(R) </a:t>
            </a:r>
            <a:r>
              <a:rPr b="0" lang="en-US" sz="2200" spc="-1" strike="noStrike">
                <a:solidFill>
                  <a:srgbClr val="800000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dom (A1) X dom (A2) X ....X dom(An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(A1, A2, …, An) is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chem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is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1, A2, …, An are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tribut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(R):  a specific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or "value" or “population”) of relation R – this is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et of tupl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row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(R) = {t1, t2, …, tn} where each ti is an n-tup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i = &lt;v1, v2, …, vn&gt; where each vj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element-of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dom(Aj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AB02FEC-6FFA-465C-BB93-68674BFD2A7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Exampl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t R(A1, A2) be a relation schem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et dom(A1) = {0,1}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et  dom(A2) =  {a,b,c}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: dom(A1) X dom(A2) is all possible combination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{&lt;0,a&gt; , &lt;0,b&gt; , &lt;0,c&gt;, &lt;1,a&gt;, &lt;1,b&gt;, &lt;1,c&gt; }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lation state r(R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om(A1) X dom(A2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r(R) could be {&lt;0,a&gt; , &lt;0,b&gt; , &lt;1,c&gt; 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is is one possible state (or “population” or “extension”) r of the relation R, defined over A1 and A2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t has three 2-tuples: &lt;0,a&gt; , &lt;0,b&gt; , &lt;1,c&gt;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F8443E2A-917E-44CF-8BBE-5429C782B9D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efinition 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9480" y="1600200"/>
          <a:ext cx="8050320" cy="4822920"/>
        </p:xfrm>
        <a:graphic>
          <a:graphicData uri="http://schemas.openxmlformats.org/drawingml/2006/table">
            <a:tbl>
              <a:tblPr/>
              <a:tblGrid>
                <a:gridCol w="3438720"/>
                <a:gridCol w="1111320"/>
                <a:gridCol w="350028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nformal Terms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ormal Terms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lation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lumn He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trib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possible Column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ble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hema of a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pulate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te of the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99C24832-870D-4A4E-937C-0B86DBFA592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– A relation STUDEN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888696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fig05_01"/>
          <p:cNvPicPr/>
          <p:nvPr/>
        </p:nvPicPr>
        <p:blipFill>
          <a:blip r:embed="rId1"/>
          <a:stretch/>
        </p:blipFill>
        <p:spPr>
          <a:xfrm>
            <a:off x="152280" y="2219400"/>
            <a:ext cx="8589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62FD41F-4855-4D0D-A1C6-D370CBFABF7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dering of tuples in a relation r(R)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 tuples are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not considered to be ordered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, even though they appear to be in the tabular form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dering of attributes in a relation schema R (and of values within each tuple)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e will consider the attributes in R(A1, A2, ..., An) and the values in t=&lt;v1, v2, ..., vn&gt; to be ordered 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However, a more general alternative definition  of relation does not require this ordering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107E8B2-F242-4E43-9757-D06D8D25D9D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ame state as previous Figure (but with different order of tuples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2" name="Picture 5" descr="fig05_02"/>
          <p:cNvPicPr/>
          <p:nvPr/>
        </p:nvPicPr>
        <p:blipFill>
          <a:blip r:embed="rId1"/>
          <a:stretch/>
        </p:blipFill>
        <p:spPr>
          <a:xfrm>
            <a:off x="228600" y="2444760"/>
            <a:ext cx="845028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7D007953-4D2A-4137-A804-E954F7E2679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es in a tupl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l values are considered atomic (indivisible)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value in a tuple must be from the domain of the attribute for that colum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tuple t = &lt;v1, v2, …, vn&gt; is a tuple (row) in the relation state r of R(A1, A2, …, A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eac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st be a value from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m(Ai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special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null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value is used to represent values that are unknown or inapplicable to certain tuples.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9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560" y="2590560"/>
            <a:ext cx="6629400" cy="19047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Relational Data Model and Relational Database Constrai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43665BD-44EB-4441-872F-DF8DB65940B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refer to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omponent value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of a tuple t by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[Ai] or t.Ai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is the value vi of attribute Ai for tuple 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imilarly, t[Au, Av, ..., Aw] refers to the subtuple of t containing the values of attributes Au, Av, ..., Aw, respectively in 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F9979EAE-1FD1-4F5C-B322-88E191FDF64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Integrity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aints a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dit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at must hold o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valid relation stat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re are thre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ain typ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constraints in the relational model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Ke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Entit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integrit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other implicit constraint is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onstrai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very value in a tuple must be from th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domain of its attribut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(or it could b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nul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, if allowed for that attribute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8404677A-B375-4EA9-B34C-AE9773BFBE6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Key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perke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R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s a set of attributes SK of R with the following condition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two tuples in any valid relation state r(R) will have the same value for S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at is, for any distinct tuples t1 and t2 in r(R), t1[SK]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t2[SK]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s condition must hold 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ny valid stat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r(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R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"minimal" super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at is, a key is a superkey K such that removal of any attribute from K results in a set of attributes that is not a superkey (does not possess the superkey uniqueness property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D5935A0-27C8-416C-B321-B59D9FBEFDE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Key Constraints (continued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onsider the CAR relation schem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(State, Reg#, SerialNo, Make, Model, Year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 has two key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ey1 = {State, Reg#}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ey2 = {SerialNo}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oth are also superkeys of CAR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{SerialNo, Make} is a superkey but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a key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general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y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ke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is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uperkey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(but not vice versa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y set of attributes that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includes a ke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is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uper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minima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superkey is also a 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FA56734D-04A8-451E-804B-77C4F34604F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Key Constraints (continued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a relation has several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ndidate key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one is chosen arbitrarily to be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mary ke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primary key attributes are </a:t>
            </a:r>
            <a:r>
              <a:rPr b="0" lang="en-US" sz="2200" spc="-1" strike="noStrike" u="sng">
                <a:solidFill>
                  <a:srgbClr val="800000"/>
                </a:solidFill>
                <a:uFillTx/>
                <a:latin typeface="Arial"/>
              </a:rPr>
              <a:t>underlined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onsider the CAR relation schem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(State, Reg#, </a:t>
            </a:r>
            <a:r>
              <a:rPr b="0" lang="en-US" sz="2200" spc="-1" strike="noStrike" u="sng">
                <a:solidFill>
                  <a:srgbClr val="800000"/>
                </a:solidFill>
                <a:uFillTx/>
                <a:latin typeface="Arial"/>
              </a:rPr>
              <a:t>SerialNo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, Make, Model, Year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e chose SerialNo as the primary 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rimary key value is used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uniquely identif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each tuple in a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Provides the tuple ident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so used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fer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 tuple from another tup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General rule: Choose as primary key the smallest of the candidate keys (in terms of size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Not always applicable – choice is sometimes subjectiv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EC3B9C56-D050-4F28-816F-C52C96EC131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R table with two candidate keys – LicenseNumber chosen as Primary Ke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3" name="Picture 9" descr="fig05_04"/>
          <p:cNvPicPr/>
          <p:nvPr/>
        </p:nvPicPr>
        <p:blipFill>
          <a:blip r:embed="rId1"/>
          <a:stretch/>
        </p:blipFill>
        <p:spPr>
          <a:xfrm>
            <a:off x="228600" y="2558880"/>
            <a:ext cx="8413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ED31613E-8539-49AE-952F-04153B9E8DE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Database Schema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al Database Schema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set S of relation schemas that belong to the same databas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 is the name of the whol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atabase schema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 = {R1, R2, ..., Rn}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R1, R2, …, Rn are the names of the individual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lation schema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within the database 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ing slide shows a COMPANY database schema with 6 relation schem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2CB800E-BC31-44FB-96D7-E69F68C6593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fig05_05"/>
          <p:cNvPicPr/>
          <p:nvPr/>
        </p:nvPicPr>
        <p:blipFill>
          <a:blip r:embed="rId1"/>
          <a:stretch/>
        </p:blipFill>
        <p:spPr>
          <a:xfrm>
            <a:off x="533520" y="1523880"/>
            <a:ext cx="8074080" cy="4902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762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MPANY Database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6D82D04-4075-45BC-8E98-F73461F7248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tity Integrit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ity Integrity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rimary key attribute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PK of each relation schema R in S cannot have null values in any tuple of r(R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s is because primary key values are used to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dentif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the individual tupl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[PK]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null for any tuple t in r(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PK has several attributes, null is not allowed in any of these attribu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ote: Other attributes of R may be constrained  to disallow null values, even though they are not members of the primary key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03EA783C-87F0-4E9A-833C-51667AD9C0F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constraint involv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l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previous constraints involve a single  relation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d to specify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mong tuples in two relation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ing relation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nd 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ed relatio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CF1FF3B2-AFFA-471B-AEA6-ECC8BDDE4BA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pter Outlin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al Model Concep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al Model Constraints and Relational Database Schem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pdate Operations and Dealing with Constraint Viol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F61E2E3-DE64-47C0-88EA-9F91FBA2315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ples in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erencing rel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1 have attributes FK (calle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eign ke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tributes) that reference the primary key attributes PK of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erenced rel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2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tuple t1 in R1 is said to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a tuple t2 in R2 if t1[FK] = t2[PK]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ferential integrity constraint can be displayed in a relational database schema as a directed arc from R1.FK to R2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F31DE250-4CA3-4A24-A813-B1F9E5E3E92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ferential Integrity (or foreign key)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onstrain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tement of the constrai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value in the foreign key column (or columns) FK of the 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ing relatio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R1 can b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ither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1) a value of an existing primary key value of a corresponding primary key PK in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ferenced re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R2,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)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ul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case (2), the FK in R1 shoul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e a part of its own primary ke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11B8158F-9A13-44CF-9670-0E2B9829C89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isplaying a relational database schema and its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relation schema can be displayed as a row of attribute nam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ame of the relation is written above the attribute nam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rimary key attribute (or attributes) will be underlin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foreign key (referential integrity) constraints is displayed as a directed arc (arrow) from the foreign key attributes to the referenced ta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n also point the the primary key of the referenced relation for clar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xt slide shows the COMPAN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ational schema diagra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736B734-0CD3-43BE-9182-2911839EC2A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fig05_07"/>
          <p:cNvPicPr/>
          <p:nvPr/>
        </p:nvPicPr>
        <p:blipFill>
          <a:blip r:embed="rId1"/>
          <a:stretch/>
        </p:blipFill>
        <p:spPr>
          <a:xfrm>
            <a:off x="1295280" y="1592280"/>
            <a:ext cx="6477120" cy="4808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5720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ferential Integrity Constraints for COMPANY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6397D6F-79A8-47C4-A56C-E3D1785851D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ther Types of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mantic Integrity Constraint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based on application semantics and cannot be expressed by the model per s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xample: “the max. no. of hours per employee for all projects he or she works on is 56 hrs per week”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traint specif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language may have to be used to express the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QL-99 allows triggers an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SERTION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o express for some of the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13C9EA7-42D0-43A4-BB86-934BCC803A0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pulated database stat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ll have many tuples in its current relation s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al database st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a union of all the individual relation s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never the database is changed, a new state ar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operations for changing the databas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NSERT a new tuple in a relat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LETE an existing tuple from a relat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ODIFY an attribute of an existing tup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xt slide shows an example state for the COMPANY databa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4FEF886-7856-4379-B023-DD25245BB7B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fig05_06"/>
          <p:cNvPicPr/>
          <p:nvPr/>
        </p:nvPicPr>
        <p:blipFill>
          <a:blip r:embed="rId1"/>
          <a:stretch/>
        </p:blipFill>
        <p:spPr>
          <a:xfrm>
            <a:off x="2666880" y="1523880"/>
            <a:ext cx="3948120" cy="50292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3808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opulated database state fo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8A98B51A-369C-4903-9269-5C1D41E5D05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Update Operations on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ERT a tu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LETE a tu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IFY a tu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ity constraints should not be violated by the update opera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ral update operations may have to be grouped together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pdates ma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ag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to cause other updates automatically. This may be necessary to maintain integrity constrai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5D764463-FFF2-478E-AE76-F05750DB844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Update Operations on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case of integrity violation, several actions can be take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ncel the operation that causes the violation (RESTRICT or REJECT option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Perform the operation but inform the user of the viol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rigger additional updates so the violation is corrected (CASCADE option, SET NULL option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xecute a user-specified error-correction routine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1FC089FB-99EB-4EB1-B426-5C6733D20C7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ssible violations for each oper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ERT may violate any of the constraint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omain constraint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one of the attribute values provided for the new tuple is not of the specified attribute doma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Key constraint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the value of a key attribute in the new tuple already exists in another tuple in the rel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eferential integrity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a foreign key value in the new tuple references a primary key value that does not exist in the referenced rel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y integrity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the primary key value is null in the new tup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C7878C1B-ED20-4F40-9D35-487246D1550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Model Concep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lational Model of Data is based on the concept of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strength of the relational approach to data management comes from the formal foundation provided by the theory of relation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review the essentials of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mal relational mode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this chap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acti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re is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tandard mode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based on SQL – this is described in Chapters 8 and 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re are several important differences between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m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odel and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actic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odel, as we shall se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63AFCD50-E680-4AB2-8F38-333925C5F3F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ssible violations for each oper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LETE may violate only referential integrity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f the primary key value of the tuple being deleted is referenced from other tuples in the databas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be remedied by several actions: RESTRICT, CASCADE, SET NULL (see Chapter 8 for more detail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STRICT option: reject the deletio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ASCADE option: propagate the new primary key value into the foreign keys of the referencing tuple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ET NULL option: set the foreign keys of the referencing tuples to NULL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ne of the above options must be specified during database design for each foreign key constraint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1BAC662-4F3B-4319-85AE-FC8A7761DC0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ssible violations for each oper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PDATE may violate domain constraint and NOT NULL constraint on an attribute being modifi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y of the other constraints may also be violated, depending on the attribute being updated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Updating the primary key (PK)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ilar to a DELETE followed by an INSE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ed to specify similar options to DELE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Updating a foreign key (FK)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y violate referential integr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Updating an ordinary attribute (neither PK nor FK)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only violate domain constrai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AD2FCA1E-4BFF-40D8-8A97-79149988E0E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sented Relational Model Con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finition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ussed Relational Model Constraints and Relational Database Schem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omain constraints’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Key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y integr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the Relational Update Operations and Dealing with Constraint Viol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F19AA4C4-3B02-4A3E-BF1C-DDE0B8A1326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-Class Exercis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606680"/>
            <a:ext cx="8534520" cy="42544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Taken from Exercise 5.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nsider the following relations for a database that keeps track of student enrollment in courses and the books adopted for each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UDENT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Name, Major, B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URSE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Cname, D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ROLL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OK_ADOPTION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Book_ISB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XT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Book_ISB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Book_Title, Publisher, Aut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raw a relational schema diagram specifying the foreign keys for this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A018B8B-6E7E-4688-BD69-874433ED229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Model Concep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lation is a mathematical concept based on the ideas of se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model was first proposed by Dr. E.F. Codd of IBM Research in 1970 in the following pape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"A Relational Model for Large Shared Data Banks," Communications of the ACM, June 1970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bove paper caused a major revolution in the field of database management and earned Dr. Codd the coveted ACM Turing Awar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0020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0B20D1A-12F2-402F-8E72-5F0EF835591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formal Defini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Informally, a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looks like a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table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of values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A relation typically contains a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set of rows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The data elements in each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row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represent certain facts that correspond to a real-world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entity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0000"/>
                </a:solidFill>
                <a:latin typeface="Arial"/>
              </a:rPr>
              <a:t>In the formal model, rows are called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tuples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Each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olumn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has a column header that gives an indication of the meaning of the data items in that column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In the formal model, the column header is called an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attribute name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 (or just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attribute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B5C8A18D-8222-4634-805B-70C5B4079C4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of a Rel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888696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fig05_01"/>
          <p:cNvPicPr/>
          <p:nvPr/>
        </p:nvPicPr>
        <p:blipFill>
          <a:blip r:embed="rId1"/>
          <a:stretch/>
        </p:blipFill>
        <p:spPr>
          <a:xfrm>
            <a:off x="152280" y="2295360"/>
            <a:ext cx="849024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93F31747-003B-40BE-AA49-C36D1CCDBB4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formal Defini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Key of a Rel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Each row has a value of a data item (or set of items) that uniquely identifies that row in the table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key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In the STUDENT table, SSN is the key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Sometimes row-ids or sequential numbers are assigned as keys to identify the rows in a table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alled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artificial key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surrogate key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EB18F62-A79E-40CA-B58B-93A5A95C267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Schema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chem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or description) of a Relatio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noted by R(A1, A2, .....An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 is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the relat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attributes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the relation are A1, A2, ..., A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USTOMER (Cust-id, Cust-name, Address, Phone#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USTOMER is the relation nam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fined over the four attributes: Cust-id, Cust-name, Address, Phone#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attribute has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r a set of valid value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For example, the domain of Cust-id is 6 digit number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user</cp:lastModifiedBy>
  <cp:lastPrinted>2001-11-04T00:51:13Z</cp:lastPrinted>
  <dcterms:modified xsi:type="dcterms:W3CDTF">2016-02-02T11:25:14Z</dcterms:modified>
  <cp:revision>55</cp:revision>
  <dc:subject>The Relational Data Model and Relational Database Constraints</dc:subject>
  <dc:title>Chapter 5</dc:title>
</cp:coreProperties>
</file>